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67F1-760B-45FD-94A2-C3BFDB20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D90-61D4-4739-A9F9-3F3B95A01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016-A0CE-43DA-9BFA-9463016B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754-A82D-4868-9519-3E618670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AD72-A7A2-4A1B-8EB4-4A0102F3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karyotic RNA is about 10% of eukaryotic ge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9F6-7885-426D-9FA5-575F0C16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333-0520-41FF-98E8-61D46EF7C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ong evidence for a single origin in evolutionary 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0A35-D150-490B-87B0-601CE8AF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05EF-7525-4004-9581-E66B92992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031-506D-4F67-88B1-E9368CB4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32A-D743-4CA0-A6C6-F9CC2A438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A54-5B4A-446D-8C30-2EF0DF86A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E98-9723-470E-ADD3-AE699843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694B-9709-4493-986B-67F1ACE4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lter Gilbert hypothe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be exons are functional units and introns make it easier for them to recombine, so as to produce new proteins with new properties through new combinations of doma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ns give a large area for cutting genes and joining together the pieces without damaging the coding region of the gene…. patching genes together does not have to be so preci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68D-3117-429B-8BE1-8E00823B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3BE-E483-4D12-BD6B-79E80171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et from the chemical language of DNA to the chemical language of proteins requires 2 major stag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cription and trans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1728-7013-499F-965E-AE5AED8CA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DD5-324F-4BE4-907C-2BA11D32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EA4-BF10-45B8-AFCA-C1490D920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CBC-1CC6-4290-900D-E45776D8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763-63A7-4E19-A4D6-2A6BFD36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E07-61CC-4A17-8B7B-A072EA1E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428-9EA0-4104-9378-DBF491B9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30A-7251-4B62-965C-073F5747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09C-320C-4C41-B673-4268EC78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C398-5137-44E7-84B7-1FC64376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1F3-D816-4A8C-9ECC-BE10B19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A17-9622-43C2-8490-034AEFD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6AF9-7FE8-4F12-AD26-A2322C62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4EE-35C2-4B6D-B960-D074993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9C0D-A5AB-47A3-83B9-D277802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AED-8826-41F5-8CF3-941FAF2A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ACA-3BF2-4567-B7BB-0393C3E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9103-A994-4758-8A15-286D083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2BA7-1F32-42CB-B876-DD96DE10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4501-C850-459D-8D16-0880CD29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FBC-4CB8-4C68-A9B3-2E00E6D9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4790-14E9-42AE-AAFE-D5192A9D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BB20-235E-4EFC-A37E-2427B14A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EC50-2352-41CC-8685-F6BD02D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CE62-5824-46D0-8E0A-6BEAA47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3E61-F1F8-4FA8-8904-A8AD8BA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1D8-5CF7-463D-8D8D-FB674C7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2586-65A2-4BFA-B09D-4B89BD8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ACA5-A5C4-4B5D-B80C-B85C025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9957-C1F2-4B58-8DD5-717A73F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86F5-6C8D-4346-92A6-5A8E894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F996-5708-4893-91D2-6388A60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A30A-5DFB-4889-B288-E98B8E64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68D1-D8C0-43C4-9A58-AF893447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5DD5-1FF2-428A-974A-BAA0EBCC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2500-3134-4051-9CEA-1910BA5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7AC8-40D1-4042-AE48-44032B6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B92-F64C-4A0F-BC91-CEB636AE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E503-329E-4F73-A601-FF77F7A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511E-DA1F-442D-9952-4DBFD60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FFCD-E290-476F-A5B1-4E093B9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6172-D0E9-4049-8B3C-14E9F71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6BA1-A3B8-47DD-90DD-F9082FC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E350-6944-4BB4-B560-55E3DB9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05CE-3DF5-4D7A-9C25-7DD07D8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5B89-97CB-421F-A911-75E26941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6AC2-CC89-49CE-B1A8-1DB8457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C460-2004-4E66-A907-F4EB093D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4DE-5BD5-4FEC-BADE-489DAD37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BF5D-8DF5-48F8-8882-CF5A31B2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4AF1-79B1-4BBE-85A9-B8679B9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DDCB-FD92-43EB-8D44-BCD065F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EE4B-EBDE-4764-9E46-6262747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60D0-1793-4E28-AAF3-B4AF566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1C80-0F64-4871-B3C2-ACB181C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24C7-3D9E-498D-A708-77B6259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5051-C165-4EA3-BAEB-F3AF268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D14F-7BF3-4BBC-88B1-3292A99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4DC8-57B6-451B-906C-6587FB97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93B-5913-40DF-A90C-A2D7A8B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F0DFA-073E-40E8-A45A-34B6A040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967F-A58D-46C5-839E-D697E928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196B-119D-4655-9E8E-6160B558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2790D-E5BC-47A7-A297-8467E420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77D0-163B-4985-B836-DD3ECB1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9BBE0-5299-4CAF-8BB4-D431456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3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0647-7AAF-4F52-947F-612789C4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D6863-A0AC-4825-AB10-2389902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30602-2654-4F45-97B8-4FD007E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2A3F5-862C-4E2B-BB30-C0B92C9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465-8407-4C00-9DA7-480B7EF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B3E3-504E-44BC-BE28-D634469D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2C837-4A50-4701-8D94-FEDEE5FF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173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44920" y="11685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08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173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44920" y="4140360"/>
            <a:ext cx="288288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1A93E-6A30-4BE7-843D-8444F410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8280" y="41403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61D-8792-44D9-BEC5-9B81245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8280" y="1168560"/>
            <a:ext cx="43693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4140360"/>
            <a:ext cx="895356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75F-735A-4BF3-B7C5-88CDF16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6C6-D7AA-42F4-A802-54E25F7A51B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8B0-C738-46EB-85DD-D4A5533C9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8CA-3F16-4152-88D2-45525C5592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951-3005-4F56-80EB-B58F2B01B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9224-843C-457D-B8C2-94A3EEBCC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BAA4-9504-45D2-98D1-238993701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113-B369-4ECC-803C-1C17D3392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3d69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1824-8CD1-4059-88F9-E2C0BCC01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lencoe.mcgraw-hill.com/sites/0076611841/student_view0/chapter12/animations_videos_mp3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wiley.com/college/boyer/0470003790/animations/translation/translation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highered.mcgraw-hill.com/olc/dl/120077/bio25.swf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translation"/>
          <p:cNvPicPr/>
          <p:nvPr/>
        </p:nvPicPr>
        <p:blipFill>
          <a:blip r:embed="rId1"/>
          <a:stretch/>
        </p:blipFill>
        <p:spPr>
          <a:xfrm>
            <a:off x="0" y="3389400"/>
            <a:ext cx="4952880" cy="3392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1191240" y="190476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 Rounded MT Bold"/>
              </a:rPr>
              <a:t>From Gene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Arial Rounded MT Bold"/>
              </a:rPr>
              <a:t>to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4599000" y="457200"/>
            <a:ext cx="4545000" cy="3332160"/>
            <a:chOff x="4599000" y="457200"/>
            <a:chExt cx="4545000" cy="3332160"/>
          </a:xfrm>
        </p:grpSpPr>
        <p:pic>
          <p:nvPicPr>
            <p:cNvPr id="253" name="Picture 6" descr="f15-05_the_central_dogm_c"/>
            <p:cNvPicPr/>
            <p:nvPr/>
          </p:nvPicPr>
          <p:blipFill>
            <a:blip r:embed="rId2"/>
            <a:srcRect l="0" t="2252" r="0" b="0"/>
            <a:stretch/>
          </p:blipFill>
          <p:spPr>
            <a:xfrm>
              <a:off x="4599000" y="457200"/>
              <a:ext cx="454500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Line 10"/>
            <p:cNvSpPr/>
            <p:nvPr/>
          </p:nvSpPr>
          <p:spPr>
            <a:xfrm>
              <a:off x="5033880" y="858960"/>
              <a:ext cx="0" cy="820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5033880" y="2130480"/>
              <a:ext cx="0" cy="584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"/>
          <p:cNvSpPr/>
          <p:nvPr/>
        </p:nvSpPr>
        <p:spPr>
          <a:xfrm>
            <a:off x="5703840" y="4687920"/>
            <a:ext cx="32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7 - Camp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79520" y="202680"/>
            <a:ext cx="812808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: DNA to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0080" y="1298160"/>
            <a:ext cx="4729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place in the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tion of DNA is unzi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NA polymer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s down nucleotides 5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RNA then leaves the nucleus through the nuclear pores and enters the 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http://ts3.mm.bing.net/images/thumbnail.aspx?q=1281699884334&amp;id=4b445885de546f9abc3d12d07bf775af&amp;url=http%3a%2f%2fmeyerbio1b.wikispaces.com%2ffile%2fview%2ftranscription.jpg%2f72711585%2ftranscription.jpg"/>
          <p:cNvPicPr/>
          <p:nvPr/>
        </p:nvPicPr>
        <p:blipFill>
          <a:blip r:embed="rId1"/>
          <a:stretch/>
        </p:blipFill>
        <p:spPr>
          <a:xfrm>
            <a:off x="4913280" y="1387440"/>
            <a:ext cx="4152960" cy="42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rav32223_15_07"/>
          <p:cNvPicPr/>
          <p:nvPr/>
        </p:nvPicPr>
        <p:blipFill>
          <a:blip r:embed="rId1"/>
          <a:srcRect l="0" t="35590" r="0" b="0"/>
          <a:stretch/>
        </p:blipFill>
        <p:spPr>
          <a:xfrm>
            <a:off x="525600" y="160200"/>
            <a:ext cx="8037360" cy="513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47600" y="5427720"/>
            <a:ext cx="89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ding str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is is the protein needed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ense str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mplate str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is is th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i-sense str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9920" y="203040"/>
            <a:ext cx="8697960" cy="9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genes have untranscribed regio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360" y="1111320"/>
            <a:ext cx="81230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 must be modified before it leaves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ex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real g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380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ed / coding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non-coded s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380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-betwe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Spliceosomes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out introns with ribo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18" descr="f15-18a_the_eukaryotic__cb"/>
          <p:cNvPicPr/>
          <p:nvPr/>
        </p:nvPicPr>
        <p:blipFill>
          <a:blip r:embed="rId1"/>
          <a:srcRect l="13500" t="36000" r="2250" b="57008"/>
          <a:stretch/>
        </p:blipFill>
        <p:spPr>
          <a:xfrm>
            <a:off x="2468520" y="5310360"/>
            <a:ext cx="6086520" cy="379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9"/>
          <p:cNvSpPr/>
          <p:nvPr/>
        </p:nvSpPr>
        <p:spPr>
          <a:xfrm>
            <a:off x="642600" y="5407200"/>
            <a:ext cx="1880280" cy="265320"/>
          </a:xfrm>
          <a:custGeom>
            <a:avLst/>
            <a:gdLst>
              <a:gd name="textAreaLeft" fmla="*/ 0 w 1880280"/>
              <a:gd name="textAreaRight" fmla="*/ 1880640 w 18802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karyotic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0"/>
          <p:cNvGrpSpPr/>
          <p:nvPr/>
        </p:nvGrpSpPr>
        <p:grpSpPr>
          <a:xfrm>
            <a:off x="2012760" y="5597640"/>
            <a:ext cx="5522400" cy="564840"/>
            <a:chOff x="2012760" y="5597640"/>
            <a:chExt cx="5522400" cy="564840"/>
          </a:xfrm>
        </p:grpSpPr>
        <p:sp>
          <p:nvSpPr>
            <p:cNvPr id="353" name="Rectangle 21"/>
            <p:cNvSpPr/>
            <p:nvPr/>
          </p:nvSpPr>
          <p:spPr>
            <a:xfrm>
              <a:off x="2012760" y="5702760"/>
              <a:ext cx="55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on = coding (expressed)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2"/>
            <p:cNvSpPr/>
            <p:nvPr/>
          </p:nvSpPr>
          <p:spPr>
            <a:xfrm>
              <a:off x="2976840" y="55976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>
              <a:off x="3281400" y="559764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4"/>
          <p:cNvGrpSpPr/>
          <p:nvPr/>
        </p:nvGrpSpPr>
        <p:grpSpPr>
          <a:xfrm>
            <a:off x="1209600" y="4762800"/>
            <a:ext cx="6218640" cy="618840"/>
            <a:chOff x="1209600" y="4762800"/>
            <a:chExt cx="6218640" cy="618840"/>
          </a:xfrm>
        </p:grpSpPr>
        <p:sp>
          <p:nvSpPr>
            <p:cNvPr id="357" name="Rectangle 25"/>
            <p:cNvSpPr/>
            <p:nvPr/>
          </p:nvSpPr>
          <p:spPr>
            <a:xfrm>
              <a:off x="1209600" y="4762800"/>
              <a:ext cx="62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ron = noncoding (inbetween)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3840480" y="51530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 flipH="1">
              <a:off x="3535200" y="515304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AutoShape 31"/>
          <p:cNvSpPr/>
          <p:nvPr/>
        </p:nvSpPr>
        <p:spPr>
          <a:xfrm>
            <a:off x="5975280" y="2106720"/>
            <a:ext cx="1992240" cy="1006200"/>
          </a:xfrm>
          <a:prstGeom prst="wedgeEllipseCallout">
            <a:avLst>
              <a:gd name="adj1" fmla="val 51435"/>
              <a:gd name="adj2" fmla="val 757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me ou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7" descr=""/>
          <p:cNvPicPr/>
          <p:nvPr/>
        </p:nvPicPr>
        <p:blipFill>
          <a:blip r:embed="rId2"/>
          <a:stretch/>
        </p:blipFill>
        <p:spPr>
          <a:xfrm>
            <a:off x="-58680" y="4219560"/>
            <a:ext cx="91868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6240" y="217440"/>
            <a:ext cx="753120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0" t="0" r="0" b="4111"/>
          <a:stretch/>
        </p:blipFill>
        <p:spPr>
          <a:xfrm>
            <a:off x="3048120" y="3309840"/>
            <a:ext cx="6095880" cy="3490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1079280"/>
            <a:ext cx="777240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piece of DNA can be read many differ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the exons may make it to the final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n presence can determine which exons stay or 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efficiency and flexibility of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RN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have big role in alternative spli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penguinL"/>
          <p:cNvPicPr/>
          <p:nvPr/>
        </p:nvPicPr>
        <p:blipFill>
          <a:blip r:embed="rId2"/>
          <a:stretch/>
        </p:blipFill>
        <p:spPr>
          <a:xfrm>
            <a:off x="46080" y="54450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 flipH="1">
            <a:off x="531720" y="3459240"/>
            <a:ext cx="2097360" cy="1454040"/>
          </a:xfrm>
          <a:prstGeom prst="wedgeEllipseCallout">
            <a:avLst>
              <a:gd name="adj1" fmla="val 25245"/>
              <a:gd name="adj2" fmla="val 9715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tarting to ge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t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efine a gen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1"/>
          <p:cNvGrpSpPr/>
          <p:nvPr/>
        </p:nvGrpSpPr>
        <p:grpSpPr>
          <a:xfrm>
            <a:off x="824040" y="4123440"/>
            <a:ext cx="7482600" cy="2431080"/>
            <a:chOff x="824040" y="4123440"/>
            <a:chExt cx="7482600" cy="2431080"/>
          </a:xfrm>
        </p:grpSpPr>
        <p:pic>
          <p:nvPicPr>
            <p:cNvPr id="368" name="Picture 2" descr="15_12"/>
            <p:cNvPicPr/>
            <p:nvPr/>
          </p:nvPicPr>
          <p:blipFill>
            <a:blip r:embed="rId1"/>
            <a:srcRect l="16878" t="48000" r="1689" b="22504"/>
            <a:stretch/>
          </p:blipFill>
          <p:spPr>
            <a:xfrm>
              <a:off x="1049400" y="4411800"/>
              <a:ext cx="708552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Rectangle 3"/>
            <p:cNvSpPr/>
            <p:nvPr/>
          </p:nvSpPr>
          <p:spPr>
            <a:xfrm>
              <a:off x="1766520" y="4411800"/>
              <a:ext cx="353520" cy="11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"/>
            <p:cNvSpPr/>
            <p:nvPr/>
          </p:nvSpPr>
          <p:spPr>
            <a:xfrm>
              <a:off x="824040" y="5725440"/>
              <a:ext cx="470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"/>
            <p:cNvSpPr/>
            <p:nvPr/>
          </p:nvSpPr>
          <p:spPr>
            <a:xfrm>
              <a:off x="6956280" y="506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 rot="20805600">
              <a:off x="7179840" y="5025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 rot="20255400">
              <a:off x="7405200" y="4952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 rot="20255400">
              <a:off x="7641000" y="4820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 rot="20255400">
              <a:off x="7876440" y="4689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 rot="20316600">
              <a:off x="6100560" y="4439520"/>
              <a:ext cx="180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' poly-A t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Picture 11" descr=""/>
            <p:cNvPicPr/>
            <p:nvPr/>
          </p:nvPicPr>
          <p:blipFill>
            <a:blip r:embed="rId2"/>
            <a:stretch/>
          </p:blipFill>
          <p:spPr>
            <a:xfrm>
              <a:off x="6833880" y="4521600"/>
              <a:ext cx="128592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12"/>
            <p:cNvSpPr/>
            <p:nvPr/>
          </p:nvSpPr>
          <p:spPr>
            <a:xfrm>
              <a:off x="4264920" y="519984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1065600" y="585684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4"/>
            <p:cNvSpPr/>
            <p:nvPr/>
          </p:nvSpPr>
          <p:spPr>
            <a:xfrm rot="20020800">
              <a:off x="1240200" y="537264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' c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"/>
            <p:cNvSpPr/>
            <p:nvPr/>
          </p:nvSpPr>
          <p:spPr>
            <a:xfrm>
              <a:off x="8183880" y="454320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6"/>
            <p:cNvSpPr/>
            <p:nvPr/>
          </p:nvSpPr>
          <p:spPr>
            <a:xfrm>
              <a:off x="1418040" y="59004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7"/>
            <p:cNvSpPr/>
            <p:nvPr/>
          </p:nvSpPr>
          <p:spPr>
            <a:xfrm>
              <a:off x="1633680" y="5834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"/>
            <p:cNvSpPr/>
            <p:nvPr/>
          </p:nvSpPr>
          <p:spPr>
            <a:xfrm>
              <a:off x="1952640" y="5684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9"/>
            <p:cNvSpPr/>
            <p:nvPr/>
          </p:nvSpPr>
          <p:spPr>
            <a:xfrm>
              <a:off x="1788480" y="574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"/>
            <p:cNvSpPr/>
            <p:nvPr/>
          </p:nvSpPr>
          <p:spPr>
            <a:xfrm rot="20573400">
              <a:off x="7131600" y="530388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f116a"/>
                  </a:solidFill>
                  <a:latin typeface="Arial"/>
                </a:rPr>
                <a:t>50-250 A</a:t>
              </a:r>
              <a:r>
                <a:rPr b="1" lang="ja-JP" sz="1300" spc="-1" strike="noStrike">
                  <a:solidFill>
                    <a:srgbClr val="0f116a"/>
                  </a:solidFill>
                  <a:latin typeface="Arial"/>
                </a:rPr>
                <a:t>’</a:t>
              </a:r>
              <a:r>
                <a:rPr b="1" lang="en-US" sz="1300" spc="-1" strike="noStrike">
                  <a:solidFill>
                    <a:srgbClr val="0f116a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7480" y="115920"/>
            <a:ext cx="8534520" cy="9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nal mRNA processing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9360" y="1117440"/>
            <a:ext cx="8418600" cy="29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protect mRNA on its trip from nucleus to cytoplas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enzymes in cytoplasm attack 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the ends of the molec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5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GTP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poly-A 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tail, mRNA lasts l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6705720" y="6477120"/>
            <a:ext cx="144756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209680" y="6477120"/>
            <a:ext cx="457200" cy="2286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164240" y="1751760"/>
            <a:ext cx="903240" cy="1067760"/>
            <a:chOff x="1164240" y="1751760"/>
            <a:chExt cx="903240" cy="1067760"/>
          </a:xfrm>
        </p:grpSpPr>
        <p:sp>
          <p:nvSpPr>
            <p:cNvPr id="392" name="Line 5"/>
            <p:cNvSpPr/>
            <p:nvPr/>
          </p:nvSpPr>
          <p:spPr>
            <a:xfrm>
              <a:off x="1403280" y="20574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1164240" y="1751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20-30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8244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2240" y="2895480"/>
            <a:ext cx="1406160" cy="1495080"/>
            <a:chOff x="192240" y="2895480"/>
            <a:chExt cx="1406160" cy="1495080"/>
          </a:xfrm>
        </p:grpSpPr>
        <p:sp>
          <p:nvSpPr>
            <p:cNvPr id="396" name="Line 9"/>
            <p:cNvSpPr/>
            <p:nvPr/>
          </p:nvSpPr>
          <p:spPr>
            <a:xfrm>
              <a:off x="762120" y="289548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192240" y="3961440"/>
              <a:ext cx="1406160" cy="429120"/>
            </a:xfrm>
            <a:prstGeom prst="rect">
              <a:avLst/>
            </a:prstGeom>
            <a:solidFill>
              <a:srgbClr val="97c6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promo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1"/>
          <p:cNvGrpSpPr/>
          <p:nvPr/>
        </p:nvGrpSpPr>
        <p:grpSpPr>
          <a:xfrm>
            <a:off x="6707880" y="2819520"/>
            <a:ext cx="1887480" cy="1906200"/>
            <a:chOff x="6707880" y="2819520"/>
            <a:chExt cx="1887480" cy="1906200"/>
          </a:xfrm>
        </p:grpSpPr>
        <p:sp>
          <p:nvSpPr>
            <p:cNvPr id="399" name="Line 12"/>
            <p:cNvSpPr/>
            <p:nvPr/>
          </p:nvSpPr>
          <p:spPr>
            <a:xfrm>
              <a:off x="8458200" y="2819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6707880" y="3961440"/>
              <a:ext cx="1887480" cy="764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755000" y="2819520"/>
            <a:ext cx="1887480" cy="1906200"/>
            <a:chOff x="1755000" y="2819520"/>
            <a:chExt cx="1887480" cy="1906200"/>
          </a:xfrm>
        </p:grpSpPr>
        <p:sp>
          <p:nvSpPr>
            <p:cNvPr id="402" name="Line 15"/>
            <p:cNvSpPr/>
            <p:nvPr/>
          </p:nvSpPr>
          <p:spPr>
            <a:xfrm>
              <a:off x="1828800" y="2819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6"/>
            <p:cNvSpPr/>
            <p:nvPr/>
          </p:nvSpPr>
          <p:spPr>
            <a:xfrm>
              <a:off x="1755000" y="3961440"/>
              <a:ext cx="1887480" cy="764280"/>
            </a:xfrm>
            <a:prstGeom prst="rect">
              <a:avLst/>
            </a:prstGeom>
            <a:solidFill>
              <a:srgbClr val="007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ran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7"/>
          <p:cNvGrpSpPr/>
          <p:nvPr/>
        </p:nvGrpSpPr>
        <p:grpSpPr>
          <a:xfrm>
            <a:off x="3124080" y="2819520"/>
            <a:ext cx="4343040" cy="1113840"/>
            <a:chOff x="3124080" y="2819520"/>
            <a:chExt cx="4343040" cy="1113840"/>
          </a:xfrm>
        </p:grpSpPr>
        <p:sp>
          <p:nvSpPr>
            <p:cNvPr id="405" name="Line 18"/>
            <p:cNvSpPr/>
            <p:nvPr/>
          </p:nvSpPr>
          <p:spPr>
            <a:xfrm>
              <a:off x="3124080" y="2819520"/>
              <a:ext cx="175284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9"/>
            <p:cNvSpPr/>
            <p:nvPr/>
          </p:nvSpPr>
          <p:spPr>
            <a:xfrm>
              <a:off x="3962520" y="2819520"/>
              <a:ext cx="990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0"/>
            <p:cNvSpPr/>
            <p:nvPr/>
          </p:nvSpPr>
          <p:spPr>
            <a:xfrm>
              <a:off x="4952880" y="281952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1"/>
            <p:cNvSpPr/>
            <p:nvPr/>
          </p:nvSpPr>
          <p:spPr>
            <a:xfrm flipH="1">
              <a:off x="5257440" y="2819520"/>
              <a:ext cx="30492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2"/>
            <p:cNvSpPr/>
            <p:nvPr/>
          </p:nvSpPr>
          <p:spPr>
            <a:xfrm flipH="1">
              <a:off x="5409720" y="281952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3"/>
            <p:cNvSpPr/>
            <p:nvPr/>
          </p:nvSpPr>
          <p:spPr>
            <a:xfrm flipH="1">
              <a:off x="5562360" y="2819520"/>
              <a:ext cx="190476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4"/>
            <p:cNvSpPr/>
            <p:nvPr/>
          </p:nvSpPr>
          <p:spPr>
            <a:xfrm>
              <a:off x="4640040" y="3504240"/>
              <a:ext cx="1127160" cy="42912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tr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25"/>
          <p:cNvSpPr/>
          <p:nvPr/>
        </p:nvSpPr>
        <p:spPr>
          <a:xfrm>
            <a:off x="152280" y="2666880"/>
            <a:ext cx="8915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1600200" y="2666880"/>
            <a:ext cx="66294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6920" y="97920"/>
            <a:ext cx="8772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ranscriptional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685800" y="2666880"/>
            <a:ext cx="609480" cy="228600"/>
          </a:xfrm>
          <a:prstGeom prst="rect">
            <a:avLst/>
          </a:prstGeom>
          <a:solidFill>
            <a:srgbClr val="97c6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8229600" y="2666880"/>
            <a:ext cx="3049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1600200" y="2666880"/>
            <a:ext cx="304920" cy="228600"/>
          </a:xfrm>
          <a:prstGeom prst="rect">
            <a:avLst/>
          </a:prstGeom>
          <a:solidFill>
            <a:srgbClr val="007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1"/>
          <p:cNvGrpSpPr/>
          <p:nvPr/>
        </p:nvGrpSpPr>
        <p:grpSpPr>
          <a:xfrm>
            <a:off x="2971800" y="2666880"/>
            <a:ext cx="4572000" cy="228600"/>
            <a:chOff x="2971800" y="2666880"/>
            <a:chExt cx="4572000" cy="228600"/>
          </a:xfrm>
        </p:grpSpPr>
        <p:sp>
          <p:nvSpPr>
            <p:cNvPr id="419" name="Rectangle 32"/>
            <p:cNvSpPr/>
            <p:nvPr/>
          </p:nvSpPr>
          <p:spPr>
            <a:xfrm>
              <a:off x="2971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3"/>
            <p:cNvSpPr/>
            <p:nvPr/>
          </p:nvSpPr>
          <p:spPr>
            <a:xfrm>
              <a:off x="3809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4"/>
            <p:cNvSpPr/>
            <p:nvPr/>
          </p:nvSpPr>
          <p:spPr>
            <a:xfrm>
              <a:off x="480060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5"/>
            <p:cNvSpPr/>
            <p:nvPr/>
          </p:nvSpPr>
          <p:spPr>
            <a:xfrm>
              <a:off x="541008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6"/>
            <p:cNvSpPr/>
            <p:nvPr/>
          </p:nvSpPr>
          <p:spPr>
            <a:xfrm>
              <a:off x="7238880" y="2666880"/>
              <a:ext cx="30492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7"/>
            <p:cNvSpPr/>
            <p:nvPr/>
          </p:nvSpPr>
          <p:spPr>
            <a:xfrm>
              <a:off x="6400800" y="2666880"/>
              <a:ext cx="457200" cy="228600"/>
            </a:xfrm>
            <a:prstGeom prst="rect">
              <a:avLst/>
            </a:prstGeom>
            <a:solidFill>
              <a:srgbClr val="00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38"/>
          <p:cNvSpPr/>
          <p:nvPr/>
        </p:nvSpPr>
        <p:spPr>
          <a:xfrm>
            <a:off x="2590920" y="2666880"/>
            <a:ext cx="152280" cy="228600"/>
          </a:xfrm>
          <a:prstGeom prst="rect">
            <a:avLst/>
          </a:prstGeom>
          <a:solidFill>
            <a:srgbClr val="00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9"/>
          <p:cNvSpPr/>
          <p:nvPr/>
        </p:nvSpPr>
        <p:spPr>
          <a:xfrm>
            <a:off x="7696080" y="2666880"/>
            <a:ext cx="15264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"/>
          <p:cNvSpPr/>
          <p:nvPr/>
        </p:nvSpPr>
        <p:spPr>
          <a:xfrm>
            <a:off x="3354480" y="2208960"/>
            <a:ext cx="362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anscriptional unit (ge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1"/>
          <p:cNvSpPr/>
          <p:nvPr/>
        </p:nvSpPr>
        <p:spPr>
          <a:xfrm>
            <a:off x="236412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2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2"/>
          <p:cNvSpPr/>
          <p:nvPr/>
        </p:nvSpPr>
        <p:spPr>
          <a:xfrm>
            <a:off x="7469280" y="2375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3"/>
          <p:cNvGrpSpPr/>
          <p:nvPr/>
        </p:nvGrpSpPr>
        <p:grpSpPr>
          <a:xfrm>
            <a:off x="152280" y="3123360"/>
            <a:ext cx="8915400" cy="368280"/>
            <a:chOff x="152280" y="3123360"/>
            <a:chExt cx="8915400" cy="368280"/>
          </a:xfrm>
        </p:grpSpPr>
        <p:sp>
          <p:nvSpPr>
            <p:cNvPr id="431" name="Rectangle 44"/>
            <p:cNvSpPr/>
            <p:nvPr/>
          </p:nvSpPr>
          <p:spPr>
            <a:xfrm>
              <a:off x="152280" y="3200400"/>
              <a:ext cx="891540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5"/>
            <p:cNvSpPr/>
            <p:nvPr/>
          </p:nvSpPr>
          <p:spPr>
            <a:xfrm>
              <a:off x="308520" y="3123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46"/>
          <p:cNvSpPr/>
          <p:nvPr/>
        </p:nvSpPr>
        <p:spPr>
          <a:xfrm>
            <a:off x="8466840" y="2590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7"/>
          <p:cNvSpPr/>
          <p:nvPr/>
        </p:nvSpPr>
        <p:spPr>
          <a:xfrm>
            <a:off x="579600" y="2590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4"/>
                </a:solidFill>
                <a:latin typeface="Arial"/>
              </a:rPr>
              <a:t>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8"/>
          <p:cNvSpPr/>
          <p:nvPr/>
        </p:nvSpPr>
        <p:spPr>
          <a:xfrm>
            <a:off x="8773920" y="2361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9"/>
          <p:cNvGrpSpPr/>
          <p:nvPr/>
        </p:nvGrpSpPr>
        <p:grpSpPr>
          <a:xfrm>
            <a:off x="228600" y="2286000"/>
            <a:ext cx="1523880" cy="990720"/>
            <a:chOff x="228600" y="2286000"/>
            <a:chExt cx="1523880" cy="990720"/>
          </a:xfrm>
        </p:grpSpPr>
        <p:sp>
          <p:nvSpPr>
            <p:cNvPr id="437" name="Oval 50"/>
            <p:cNvSpPr/>
            <p:nvPr/>
          </p:nvSpPr>
          <p:spPr>
            <a:xfrm>
              <a:off x="228600" y="2286000"/>
              <a:ext cx="1523880" cy="9907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1"/>
            <p:cNvSpPr/>
            <p:nvPr/>
          </p:nvSpPr>
          <p:spPr>
            <a:xfrm>
              <a:off x="266040" y="2514960"/>
              <a:ext cx="1448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2"/>
          <p:cNvGrpSpPr/>
          <p:nvPr/>
        </p:nvGrpSpPr>
        <p:grpSpPr>
          <a:xfrm>
            <a:off x="1526760" y="4281480"/>
            <a:ext cx="6842520" cy="1357920"/>
            <a:chOff x="1526760" y="4281480"/>
            <a:chExt cx="6842520" cy="1357920"/>
          </a:xfrm>
        </p:grpSpPr>
        <p:grpSp>
          <p:nvGrpSpPr>
            <p:cNvPr id="440" name="Group 53"/>
            <p:cNvGrpSpPr/>
            <p:nvPr/>
          </p:nvGrpSpPr>
          <p:grpSpPr>
            <a:xfrm>
              <a:off x="1526760" y="4281480"/>
              <a:ext cx="6702840" cy="1357920"/>
              <a:chOff x="1526760" y="4281480"/>
              <a:chExt cx="6702840" cy="1357920"/>
            </a:xfrm>
          </p:grpSpPr>
          <p:grpSp>
            <p:nvGrpSpPr>
              <p:cNvPr id="441" name="Group 54"/>
              <p:cNvGrpSpPr/>
              <p:nvPr/>
            </p:nvGrpSpPr>
            <p:grpSpPr>
              <a:xfrm>
                <a:off x="1600200" y="4281480"/>
                <a:ext cx="6629400" cy="1295280"/>
                <a:chOff x="1600200" y="4281480"/>
                <a:chExt cx="6629400" cy="1295280"/>
              </a:xfrm>
            </p:grpSpPr>
            <p:sp>
              <p:nvSpPr>
                <p:cNvPr id="442" name="Rectangle 55"/>
                <p:cNvSpPr/>
                <p:nvPr/>
              </p:nvSpPr>
              <p:spPr>
                <a:xfrm>
                  <a:off x="1600200" y="5348160"/>
                  <a:ext cx="662940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56"/>
                <p:cNvSpPr/>
                <p:nvPr/>
              </p:nvSpPr>
              <p:spPr>
                <a:xfrm>
                  <a:off x="4267080" y="4281480"/>
                  <a:ext cx="304920" cy="914400"/>
                </a:xfrm>
                <a:prstGeom prst="downArrow">
                  <a:avLst>
                    <a:gd name="adj1" fmla="val 50000"/>
                    <a:gd name="adj2" fmla="val 74970"/>
                  </a:avLst>
                </a:prstGeom>
                <a:solidFill>
                  <a:srgbClr val="ffea1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Rectangle 57"/>
              <p:cNvSpPr/>
              <p:nvPr/>
            </p:nvSpPr>
            <p:spPr>
              <a:xfrm>
                <a:off x="1526760" y="527112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pre-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Rectangle 58"/>
            <p:cNvSpPr/>
            <p:nvPr/>
          </p:nvSpPr>
          <p:spPr>
            <a:xfrm>
              <a:off x="153036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9"/>
            <p:cNvSpPr/>
            <p:nvPr/>
          </p:nvSpPr>
          <p:spPr>
            <a:xfrm>
              <a:off x="8007120" y="49518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60"/>
          <p:cNvGrpSpPr/>
          <p:nvPr/>
        </p:nvGrpSpPr>
        <p:grpSpPr>
          <a:xfrm>
            <a:off x="2516040" y="1431360"/>
            <a:ext cx="1349640" cy="1388160"/>
            <a:chOff x="2516040" y="1431360"/>
            <a:chExt cx="1349640" cy="1388160"/>
          </a:xfrm>
        </p:grpSpPr>
        <p:sp>
          <p:nvSpPr>
            <p:cNvPr id="448" name="Line 61"/>
            <p:cNvSpPr/>
            <p:nvPr/>
          </p:nvSpPr>
          <p:spPr>
            <a:xfrm>
              <a:off x="2590920" y="16002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2"/>
            <p:cNvSpPr/>
            <p:nvPr/>
          </p:nvSpPr>
          <p:spPr>
            <a:xfrm>
              <a:off x="2516040" y="1431360"/>
              <a:ext cx="1349640" cy="642600"/>
            </a:xfrm>
            <a:prstGeom prst="rect">
              <a:avLst/>
            </a:prstGeom>
            <a:solidFill>
              <a:srgbClr val="00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3"/>
          <p:cNvGrpSpPr/>
          <p:nvPr/>
        </p:nvGrpSpPr>
        <p:grpSpPr>
          <a:xfrm>
            <a:off x="7621560" y="1431360"/>
            <a:ext cx="1349640" cy="1388160"/>
            <a:chOff x="7621560" y="1431360"/>
            <a:chExt cx="1349640" cy="1388160"/>
          </a:xfrm>
        </p:grpSpPr>
        <p:sp>
          <p:nvSpPr>
            <p:cNvPr id="451" name="Line 64"/>
            <p:cNvSpPr/>
            <p:nvPr/>
          </p:nvSpPr>
          <p:spPr>
            <a:xfrm>
              <a:off x="7696080" y="16002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5"/>
            <p:cNvSpPr/>
            <p:nvPr/>
          </p:nvSpPr>
          <p:spPr>
            <a:xfrm>
              <a:off x="7621560" y="1431360"/>
              <a:ext cx="134964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66"/>
          <p:cNvGrpSpPr/>
          <p:nvPr/>
        </p:nvGrpSpPr>
        <p:grpSpPr>
          <a:xfrm>
            <a:off x="2593440" y="5791320"/>
            <a:ext cx="4258440" cy="977760"/>
            <a:chOff x="2593440" y="5791320"/>
            <a:chExt cx="4258440" cy="977760"/>
          </a:xfrm>
        </p:grpSpPr>
        <p:grpSp>
          <p:nvGrpSpPr>
            <p:cNvPr id="454" name="Group 67"/>
            <p:cNvGrpSpPr/>
            <p:nvPr/>
          </p:nvGrpSpPr>
          <p:grpSpPr>
            <a:xfrm>
              <a:off x="2593440" y="5791320"/>
              <a:ext cx="4112280" cy="977760"/>
              <a:chOff x="2593440" y="5791320"/>
              <a:chExt cx="4112280" cy="977760"/>
            </a:xfrm>
          </p:grpSpPr>
          <p:grpSp>
            <p:nvGrpSpPr>
              <p:cNvPr id="455" name="Group 68"/>
              <p:cNvGrpSpPr/>
              <p:nvPr/>
            </p:nvGrpSpPr>
            <p:grpSpPr>
              <a:xfrm>
                <a:off x="2666880" y="5791320"/>
                <a:ext cx="4038840" cy="914400"/>
                <a:chOff x="2666880" y="5791320"/>
                <a:chExt cx="4038840" cy="914400"/>
              </a:xfrm>
            </p:grpSpPr>
            <p:sp>
              <p:nvSpPr>
                <p:cNvPr id="456" name="Rectangle 69"/>
                <p:cNvSpPr/>
                <p:nvPr/>
              </p:nvSpPr>
              <p:spPr>
                <a:xfrm>
                  <a:off x="2666880" y="6477120"/>
                  <a:ext cx="4038840" cy="22860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70"/>
                <p:cNvSpPr/>
                <p:nvPr/>
              </p:nvSpPr>
              <p:spPr>
                <a:xfrm>
                  <a:off x="4267080" y="5791320"/>
                  <a:ext cx="304920" cy="533160"/>
                </a:xfrm>
                <a:prstGeom prst="downArrow">
                  <a:avLst>
                    <a:gd name="adj1" fmla="val 50000"/>
                    <a:gd name="adj2" fmla="val 43713"/>
                  </a:avLst>
                </a:prstGeom>
                <a:solidFill>
                  <a:srgbClr val="ffea1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Rectangle 71"/>
              <p:cNvSpPr/>
              <p:nvPr/>
            </p:nvSpPr>
            <p:spPr>
              <a:xfrm>
                <a:off x="2593440" y="6400800"/>
                <a:ext cx="182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mature 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72"/>
            <p:cNvSpPr/>
            <p:nvPr/>
          </p:nvSpPr>
          <p:spPr>
            <a:xfrm>
              <a:off x="259704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5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3"/>
            <p:cNvSpPr/>
            <p:nvPr/>
          </p:nvSpPr>
          <p:spPr>
            <a:xfrm>
              <a:off x="6489720" y="6081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3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74"/>
          <p:cNvGrpSpPr/>
          <p:nvPr/>
        </p:nvGrpSpPr>
        <p:grpSpPr>
          <a:xfrm>
            <a:off x="3200400" y="5346720"/>
            <a:ext cx="4572000" cy="228600"/>
            <a:chOff x="3200400" y="5346720"/>
            <a:chExt cx="4572000" cy="228600"/>
          </a:xfrm>
        </p:grpSpPr>
        <p:sp>
          <p:nvSpPr>
            <p:cNvPr id="462" name="Rectangle 75"/>
            <p:cNvSpPr/>
            <p:nvPr/>
          </p:nvSpPr>
          <p:spPr>
            <a:xfrm>
              <a:off x="3200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76"/>
            <p:cNvSpPr/>
            <p:nvPr/>
          </p:nvSpPr>
          <p:spPr>
            <a:xfrm>
              <a:off x="4038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77"/>
            <p:cNvSpPr/>
            <p:nvPr/>
          </p:nvSpPr>
          <p:spPr>
            <a:xfrm>
              <a:off x="502920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8"/>
            <p:cNvSpPr/>
            <p:nvPr/>
          </p:nvSpPr>
          <p:spPr>
            <a:xfrm>
              <a:off x="563868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9"/>
            <p:cNvSpPr/>
            <p:nvPr/>
          </p:nvSpPr>
          <p:spPr>
            <a:xfrm>
              <a:off x="7467480" y="5346720"/>
              <a:ext cx="304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0"/>
            <p:cNvSpPr/>
            <p:nvPr/>
          </p:nvSpPr>
          <p:spPr>
            <a:xfrm>
              <a:off x="6629400" y="5346720"/>
              <a:ext cx="45720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82"/>
          <p:cNvSpPr/>
          <p:nvPr/>
        </p:nvSpPr>
        <p:spPr>
          <a:xfrm>
            <a:off x="1440" y="2819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5"/>
          <p:cNvSpPr/>
          <p:nvPr/>
        </p:nvSpPr>
        <p:spPr>
          <a:xfrm>
            <a:off x="4680" y="2819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7"/>
          <p:cNvGrpSpPr/>
          <p:nvPr/>
        </p:nvGrpSpPr>
        <p:grpSpPr>
          <a:xfrm>
            <a:off x="2895480" y="1553040"/>
            <a:ext cx="4724280" cy="1266480"/>
            <a:chOff x="2895480" y="1553040"/>
            <a:chExt cx="4724280" cy="1266480"/>
          </a:xfrm>
        </p:grpSpPr>
        <p:grpSp>
          <p:nvGrpSpPr>
            <p:cNvPr id="471" name="Group 88"/>
            <p:cNvGrpSpPr/>
            <p:nvPr/>
          </p:nvGrpSpPr>
          <p:grpSpPr>
            <a:xfrm>
              <a:off x="2895480" y="1553040"/>
              <a:ext cx="4724280" cy="1190160"/>
              <a:chOff x="2895480" y="1553040"/>
              <a:chExt cx="4724280" cy="1190160"/>
            </a:xfrm>
          </p:grpSpPr>
          <p:sp>
            <p:nvSpPr>
              <p:cNvPr id="472" name="Line 89"/>
              <p:cNvSpPr/>
              <p:nvPr/>
            </p:nvSpPr>
            <p:spPr>
              <a:xfrm flipV="1">
                <a:off x="2895480" y="1905120"/>
                <a:ext cx="198144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0"/>
              <p:cNvSpPr/>
              <p:nvPr/>
            </p:nvSpPr>
            <p:spPr>
              <a:xfrm flipV="1">
                <a:off x="3657600" y="1980720"/>
                <a:ext cx="129528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91"/>
              <p:cNvSpPr/>
              <p:nvPr/>
            </p:nvSpPr>
            <p:spPr>
              <a:xfrm flipV="1">
                <a:off x="4495680" y="1980720"/>
                <a:ext cx="60984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92"/>
              <p:cNvSpPr/>
              <p:nvPr/>
            </p:nvSpPr>
            <p:spPr>
              <a:xfrm flipH="1" flipV="1">
                <a:off x="5257800" y="1905120"/>
                <a:ext cx="83808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93"/>
              <p:cNvSpPr/>
              <p:nvPr/>
            </p:nvSpPr>
            <p:spPr>
              <a:xfrm flipH="1" flipV="1">
                <a:off x="5409720" y="1905120"/>
                <a:ext cx="16765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94"/>
              <p:cNvSpPr/>
              <p:nvPr/>
            </p:nvSpPr>
            <p:spPr>
              <a:xfrm flipH="1" flipV="1">
                <a:off x="5562360" y="1905120"/>
                <a:ext cx="205740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95"/>
              <p:cNvSpPr/>
              <p:nvPr/>
            </p:nvSpPr>
            <p:spPr>
              <a:xfrm>
                <a:off x="4710240" y="1553040"/>
                <a:ext cx="988560" cy="429120"/>
              </a:xfrm>
              <a:prstGeom prst="rect">
                <a:avLst/>
              </a:prstGeom>
              <a:solidFill>
                <a:srgbClr val="404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on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96"/>
            <p:cNvSpPr/>
            <p:nvPr/>
          </p:nvSpPr>
          <p:spPr>
            <a:xfrm flipV="1">
              <a:off x="5181480" y="19051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97"/>
          <p:cNvGrpSpPr/>
          <p:nvPr/>
        </p:nvGrpSpPr>
        <p:grpSpPr>
          <a:xfrm>
            <a:off x="74880" y="1371240"/>
            <a:ext cx="1250640" cy="534960"/>
            <a:chOff x="74880" y="1371240"/>
            <a:chExt cx="1250640" cy="534960"/>
          </a:xfrm>
        </p:grpSpPr>
        <p:sp>
          <p:nvSpPr>
            <p:cNvPr id="481" name="AutoShape 98"/>
            <p:cNvSpPr/>
            <p:nvPr/>
          </p:nvSpPr>
          <p:spPr>
            <a:xfrm flipH="1">
              <a:off x="74520" y="1371240"/>
              <a:ext cx="1195560" cy="3682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enhan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99"/>
            <p:cNvSpPr/>
            <p:nvPr/>
          </p:nvSpPr>
          <p:spPr>
            <a:xfrm>
              <a:off x="579240" y="159912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1000</a:t>
              </a:r>
              <a:r>
                <a:rPr b="1" lang="en-US" sz="14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remove" presetClass="exit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111" dur="5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8960" y="245880"/>
            <a:ext cx="8359920" cy="8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09160" y="1246320"/>
            <a:ext cx="8629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code is based on sets of 3 nucleotides …called 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COD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from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4 different possible combinations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ino acids commonly exist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dons code for the same amino acids (degenerate or redunda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quence of codons determines the sequence of the polypept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is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iversal…same for all organisms (evolutionary herit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3" descr="penguinL"/>
          <p:cNvPicPr/>
          <p:nvPr/>
        </p:nvPicPr>
        <p:blipFill>
          <a:blip r:embed="rId1"/>
          <a:stretch/>
        </p:blipFill>
        <p:spPr>
          <a:xfrm>
            <a:off x="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9160" y="147240"/>
            <a:ext cx="33908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3320" y="1110960"/>
            <a:ext cx="35146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n’t need to memorize the cod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cept for AU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4087800" y="434880"/>
            <a:ext cx="5056200" cy="609624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9"/>
          <p:cNvSpPr/>
          <p:nvPr/>
        </p:nvSpPr>
        <p:spPr>
          <a:xfrm>
            <a:off x="638280" y="3189240"/>
            <a:ext cx="3228840" cy="21528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228600" anchor="t">
            <a:no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Start cod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io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Stop cod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GA, UAA, U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4495680" y="4321080"/>
            <a:ext cx="12956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6400800" y="1577880"/>
            <a:ext cx="1295280" cy="762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2"/>
          <p:cNvSpPr/>
          <p:nvPr/>
        </p:nvSpPr>
        <p:spPr>
          <a:xfrm>
            <a:off x="7391520" y="142560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18"/>
          <p:cNvSpPr/>
          <p:nvPr/>
        </p:nvSpPr>
        <p:spPr>
          <a:xfrm>
            <a:off x="2158200" y="4366440"/>
            <a:ext cx="6334200" cy="74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Courier New"/>
              </a:rPr>
              <a:t>AUGCGUGUAAAUGCAUGCG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9920" y="254160"/>
            <a:ext cx="8705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RNA codes for proteins i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ipl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659880" y="2751840"/>
            <a:ext cx="7832520" cy="745920"/>
            <a:chOff x="659880" y="2751840"/>
            <a:chExt cx="7832520" cy="745920"/>
          </a:xfrm>
        </p:grpSpPr>
        <p:sp>
          <p:nvSpPr>
            <p:cNvPr id="496" name="AutoShape 4"/>
            <p:cNvSpPr/>
            <p:nvPr/>
          </p:nvSpPr>
          <p:spPr>
            <a:xfrm>
              <a:off x="2158200" y="2751840"/>
              <a:ext cx="6334200" cy="745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cc0000"/>
                  </a:solidFill>
                  <a:latin typeface="Courier New"/>
                </a:rPr>
                <a:t>TACGCACATTTACGTACGCG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5"/>
            <p:cNvSpPr/>
            <p:nvPr/>
          </p:nvSpPr>
          <p:spPr>
            <a:xfrm>
              <a:off x="659880" y="2819160"/>
              <a:ext cx="1067400" cy="6098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Arial"/>
                </a:rPr>
                <a:t>DN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AutoShape 8"/>
          <p:cNvSpPr/>
          <p:nvPr/>
        </p:nvSpPr>
        <p:spPr>
          <a:xfrm>
            <a:off x="447120" y="4470480"/>
            <a:ext cx="1405800" cy="6098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</a:rPr>
              <a:t>m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430560" y="6016320"/>
            <a:ext cx="7736760" cy="677160"/>
            <a:chOff x="430560" y="6016320"/>
            <a:chExt cx="7736760" cy="677160"/>
          </a:xfrm>
        </p:grpSpPr>
        <p:sp>
          <p:nvSpPr>
            <p:cNvPr id="500" name="AutoShape 10"/>
            <p:cNvSpPr/>
            <p:nvPr/>
          </p:nvSpPr>
          <p:spPr>
            <a:xfrm>
              <a:off x="2480400" y="6016320"/>
              <a:ext cx="5686920" cy="677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f116a"/>
                  </a:solidFill>
                  <a:latin typeface="Courier New"/>
                </a:rPr>
                <a:t>Met</a:t>
              </a:r>
              <a:r>
                <a:rPr b="1" lang="en-US" sz="3400" spc="-1" strike="noStrike">
                  <a:solidFill>
                    <a:srgbClr val="1f497d"/>
                  </a:solidFill>
                  <a:latin typeface="Courier New"/>
                </a:rPr>
                <a:t>Arg</a:t>
              </a:r>
              <a:r>
                <a:rPr b="1" lang="en-US" sz="3400" spc="-1" strike="noStrike">
                  <a:solidFill>
                    <a:srgbClr val="cc0000"/>
                  </a:solidFill>
                  <a:latin typeface="Courier New"/>
                </a:rPr>
                <a:t>Val</a:t>
              </a:r>
              <a:r>
                <a:rPr b="1" lang="en-US" sz="3400" spc="-1" strike="noStrike">
                  <a:solidFill>
                    <a:srgbClr val="008000"/>
                  </a:solidFill>
                  <a:latin typeface="Courier New"/>
                </a:rPr>
                <a:t>Asn</a:t>
              </a:r>
              <a:r>
                <a:rPr b="1" lang="en-US" sz="3400" spc="-1" strike="noStrike">
                  <a:solidFill>
                    <a:srgbClr val="0000ff"/>
                  </a:solidFill>
                  <a:latin typeface="Courier New"/>
                </a:rPr>
                <a:t>Ala</a:t>
              </a:r>
              <a:r>
                <a:rPr b="1" lang="en-US" sz="3400" spc="-1" strike="noStrike">
                  <a:solidFill>
                    <a:srgbClr val="660000"/>
                  </a:solidFill>
                  <a:latin typeface="Courier New"/>
                </a:rPr>
                <a:t>Cys</a:t>
              </a:r>
              <a:r>
                <a:rPr b="1" lang="en-US" sz="3400" spc="-1" strike="noStrike">
                  <a:solidFill>
                    <a:srgbClr val="0000ff"/>
                  </a:solidFill>
                  <a:latin typeface="Courier New"/>
                </a:rPr>
                <a:t>Ala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"/>
            <p:cNvSpPr/>
            <p:nvPr/>
          </p:nvSpPr>
          <p:spPr>
            <a:xfrm>
              <a:off x="430560" y="6049800"/>
              <a:ext cx="1530720" cy="60984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Arial"/>
                </a:rPr>
                <a:t>prote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AutoShape 12"/>
          <p:cNvSpPr/>
          <p:nvPr/>
        </p:nvSpPr>
        <p:spPr>
          <a:xfrm rot="5400000">
            <a:off x="4993920" y="3497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3"/>
          <p:cNvGrpSpPr/>
          <p:nvPr/>
        </p:nvGrpSpPr>
        <p:grpSpPr>
          <a:xfrm>
            <a:off x="5030280" y="5149440"/>
            <a:ext cx="609480" cy="825120"/>
            <a:chOff x="5030280" y="5149440"/>
            <a:chExt cx="609480" cy="825120"/>
          </a:xfrm>
        </p:grpSpPr>
        <p:sp>
          <p:nvSpPr>
            <p:cNvPr id="504" name="AutoShape 14"/>
            <p:cNvSpPr/>
            <p:nvPr/>
          </p:nvSpPr>
          <p:spPr>
            <a:xfrm rot="5400000">
              <a:off x="4992120" y="5249880"/>
              <a:ext cx="685800" cy="609480"/>
            </a:xfrm>
            <a:custGeom>
              <a:avLst/>
              <a:gdLst>
                <a:gd name="textAreaLeft" fmla="*/ 106200 w 685800"/>
                <a:gd name="textAreaRight" fmla="*/ 600120 w 68580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5113800" y="5149440"/>
              <a:ext cx="446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halkboard"/>
                  <a:ea typeface="Apple LiGothic Medium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22"/>
          <p:cNvSpPr/>
          <p:nvPr/>
        </p:nvSpPr>
        <p:spPr>
          <a:xfrm rot="5400000">
            <a:off x="4992480" y="525744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7" descr=""/>
          <p:cNvPicPr/>
          <p:nvPr/>
        </p:nvPicPr>
        <p:blipFill>
          <a:blip r:embed="rId1"/>
          <a:srcRect l="0" t="0" r="0" b="68403"/>
          <a:stretch/>
        </p:blipFill>
        <p:spPr>
          <a:xfrm>
            <a:off x="2367000" y="1258920"/>
            <a:ext cx="4592520" cy="13939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52"/>
          <p:cNvGrpSpPr/>
          <p:nvPr/>
        </p:nvGrpSpPr>
        <p:grpSpPr>
          <a:xfrm>
            <a:off x="7415640" y="3861000"/>
            <a:ext cx="1129680" cy="1255320"/>
            <a:chOff x="7415640" y="3861000"/>
            <a:chExt cx="1129680" cy="1255320"/>
          </a:xfrm>
        </p:grpSpPr>
        <p:sp>
          <p:nvSpPr>
            <p:cNvPr id="509" name="AutoShape 49"/>
            <p:cNvSpPr/>
            <p:nvPr/>
          </p:nvSpPr>
          <p:spPr>
            <a:xfrm>
              <a:off x="7515360" y="4355640"/>
              <a:ext cx="878760" cy="76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1"/>
            <p:cNvSpPr/>
            <p:nvPr/>
          </p:nvSpPr>
          <p:spPr>
            <a:xfrm>
              <a:off x="7415640" y="3861000"/>
              <a:ext cx="1129680" cy="4388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od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traight Connector 2"/>
          <p:cNvSpPr/>
          <p:nvPr/>
        </p:nvSpPr>
        <p:spPr>
          <a:xfrm>
            <a:off x="3124080" y="4384800"/>
            <a:ext cx="0" cy="83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0"/>
          <p:cNvSpPr/>
          <p:nvPr/>
        </p:nvSpPr>
        <p:spPr>
          <a:xfrm>
            <a:off x="4003560" y="437184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31"/>
          <p:cNvSpPr/>
          <p:nvPr/>
        </p:nvSpPr>
        <p:spPr>
          <a:xfrm>
            <a:off x="5759280" y="4376880"/>
            <a:ext cx="0" cy="83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32"/>
          <p:cNvSpPr/>
          <p:nvPr/>
        </p:nvSpPr>
        <p:spPr>
          <a:xfrm>
            <a:off x="6640560" y="435276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33"/>
          <p:cNvSpPr/>
          <p:nvPr/>
        </p:nvSpPr>
        <p:spPr>
          <a:xfrm>
            <a:off x="4902120" y="4373640"/>
            <a:ext cx="0" cy="83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s the cod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transla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reading mRNA and creating a protein chain from the c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rcRect l="12206" t="0" r="0" b="0"/>
          <a:stretch/>
        </p:blipFill>
        <p:spPr>
          <a:xfrm>
            <a:off x="0" y="3035160"/>
            <a:ext cx="2063880" cy="301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growth_hormones"/>
          <p:cNvPicPr/>
          <p:nvPr/>
        </p:nvPicPr>
        <p:blipFill>
          <a:blip r:embed="rId2"/>
          <a:srcRect l="0" t="0" r="46042" b="41026"/>
          <a:stretch/>
        </p:blipFill>
        <p:spPr>
          <a:xfrm>
            <a:off x="2398680" y="3475080"/>
            <a:ext cx="1500120" cy="2133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81040" y="245880"/>
            <a:ext cx="71834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o genes code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652760" y="43894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889440" y="43894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192760" y="5520600"/>
            <a:ext cx="16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995000" y="5379480"/>
            <a:ext cx="237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f the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penguinL"/>
          <p:cNvPicPr/>
          <p:nvPr/>
        </p:nvPicPr>
        <p:blipFill>
          <a:blip r:embed="rId3"/>
          <a:stretch/>
        </p:blipFill>
        <p:spPr>
          <a:xfrm>
            <a:off x="5197320" y="3540240"/>
            <a:ext cx="1973520" cy="20048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5"/>
          <p:cNvSpPr/>
          <p:nvPr/>
        </p:nvSpPr>
        <p:spPr>
          <a:xfrm>
            <a:off x="571680" y="1079640"/>
            <a:ext cx="77724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does DNA code for cells &amp; bod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cells and bodies made from the instructions in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40200" y="552060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4"/>
          <a:stretch/>
        </p:blipFill>
        <p:spPr>
          <a:xfrm>
            <a:off x="98280" y="3454560"/>
            <a:ext cx="1654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"/>
          <p:cNvPicPr/>
          <p:nvPr/>
        </p:nvPicPr>
        <p:blipFill>
          <a:blip r:embed="rId1"/>
          <a:srcRect l="1125" t="12389" r="13502" b="15486"/>
          <a:stretch/>
        </p:blipFill>
        <p:spPr>
          <a:xfrm>
            <a:off x="5102280" y="4375080"/>
            <a:ext cx="3881520" cy="238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6184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bosomes: Site of Protein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0080" y="1654200"/>
            <a:ext cx="68007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upling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NA anticodon to mRNA co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bosomal RNA (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rR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&amp;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ubuni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7776000" y="554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8077680" y="554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837720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15_03"/>
          <p:cNvPicPr/>
          <p:nvPr/>
        </p:nvPicPr>
        <p:blipFill>
          <a:blip r:embed="rId2"/>
          <a:srcRect l="7878" t="3000" r="9000" b="0"/>
          <a:stretch/>
        </p:blipFill>
        <p:spPr>
          <a:xfrm>
            <a:off x="7042320" y="0"/>
            <a:ext cx="2077920" cy="181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7720" y="231480"/>
            <a:ext cx="753120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bosomes: 3 binding s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7619760" y="4087800"/>
            <a:ext cx="307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6173280" y="5726160"/>
            <a:ext cx="1425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7116480" y="567540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7299000" y="57992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7295760" y="56498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7467120" y="563724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7111800" y="5846760"/>
            <a:ext cx="110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7493040" y="5780160"/>
            <a:ext cx="1195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1764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Calibri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minoacyl-tRNA si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s tRNA carrying n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mino ac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added to ch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336600"/>
                </a:solidFill>
                <a:uFillTx/>
                <a:latin typeface="Calibri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eptidyl-tRNA si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s tRNA carrying grow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lypept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xit 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mpty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N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s ribos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4716360" y="3851280"/>
            <a:ext cx="4427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71560" y="144360"/>
            <a:ext cx="75312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0080" y="1168560"/>
            <a:ext cx="89535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amino acids to rib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an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co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nitrogen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Calibri"/>
              </a:rPr>
              <a:t>Anticodons use complementary bond with cod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RN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than codons, so one tRNA may bind with more than one co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the degenerate co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bbl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ypothesis: anticodon with U in third position can bind to A or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31480" y="188640"/>
            <a:ext cx="85662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lation: mRNA to Prote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0080" y="1147680"/>
            <a:ext cx="88232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ytoplasm ribosomes attach to the 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ome covers 3 codons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f1e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8f1eff"/>
                </a:solidFill>
                <a:latin typeface="Calibri"/>
              </a:rPr>
              <a:t>Initiation</a:t>
            </a:r>
            <a:r>
              <a:rPr b="1" i="1" lang="en-US" sz="2800" spc="-1" strike="noStrike">
                <a:solidFill>
                  <a:srgbClr val="8f1eff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NA carrying an amino acid comes int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P-s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onds by base pairing its anti-codon with the mRNA start cod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what is the start codon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alibri"/>
              </a:rPr>
              <a:t>Elongation</a:t>
            </a: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 tRNA then comes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-s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onds to codon of 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amino acids joined with peptid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Termination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ome continues reading mRNA until a STOP codon is reach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doesn</a:t>
            </a:r>
            <a:r>
              <a:rPr b="0" i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 code for anyth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2336760" y="624204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cGraw Hill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00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a polypept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2240" y="815760"/>
            <a:ext cx="5727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alibri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, ribosome subunits, initiator tRNA come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Calibri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amino acids based on 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codon = Release 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Group 99"/>
          <p:cNvGrpSpPr/>
          <p:nvPr/>
        </p:nvGrpSpPr>
        <p:grpSpPr>
          <a:xfrm>
            <a:off x="5958000" y="299880"/>
            <a:ext cx="3130560" cy="4367520"/>
            <a:chOff x="5958000" y="299880"/>
            <a:chExt cx="3130560" cy="4367520"/>
          </a:xfrm>
        </p:grpSpPr>
        <p:pic>
          <p:nvPicPr>
            <p:cNvPr id="544" name="Picture 4" descr=""/>
            <p:cNvPicPr/>
            <p:nvPr/>
          </p:nvPicPr>
          <p:blipFill>
            <a:blip r:embed="rId1"/>
            <a:srcRect l="0" t="0" r="3357" b="3597"/>
            <a:stretch/>
          </p:blipFill>
          <p:spPr>
            <a:xfrm>
              <a:off x="5958000" y="299880"/>
              <a:ext cx="3130560" cy="43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Oval 6"/>
            <p:cNvSpPr/>
            <p:nvPr/>
          </p:nvSpPr>
          <p:spPr>
            <a:xfrm>
              <a:off x="770220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7"/>
            <p:cNvSpPr/>
            <p:nvPr/>
          </p:nvSpPr>
          <p:spPr>
            <a:xfrm>
              <a:off x="730692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"/>
            <p:cNvSpPr/>
            <p:nvPr/>
          </p:nvSpPr>
          <p:spPr>
            <a:xfrm>
              <a:off x="6911640" y="4061520"/>
              <a:ext cx="338040" cy="337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9" descr="15_16"/>
          <p:cNvPicPr/>
          <p:nvPr/>
        </p:nvPicPr>
        <p:blipFill>
          <a:blip r:embed="rId2"/>
          <a:srcRect l="0" t="34504" r="0" b="27000"/>
          <a:stretch/>
        </p:blipFill>
        <p:spPr>
          <a:xfrm>
            <a:off x="6480" y="4664160"/>
            <a:ext cx="7062480" cy="2035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1"/>
          <p:cNvSpPr/>
          <p:nvPr/>
        </p:nvSpPr>
        <p:spPr>
          <a:xfrm>
            <a:off x="1174320" y="478944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3060360" y="518328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4766760" y="515772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4"/>
          <p:cNvSpPr/>
          <p:nvPr/>
        </p:nvSpPr>
        <p:spPr>
          <a:xfrm>
            <a:off x="6291000" y="5138640"/>
            <a:ext cx="226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1244520" y="5405400"/>
            <a:ext cx="31788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6"/>
          <p:cNvSpPr/>
          <p:nvPr/>
        </p:nvSpPr>
        <p:spPr>
          <a:xfrm>
            <a:off x="762120" y="514188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2735280" y="514656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4478400" y="501336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5997600" y="4997520"/>
            <a:ext cx="2185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660240" y="6308640"/>
            <a:ext cx="846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390600" y="6308640"/>
            <a:ext cx="8460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930240" y="63086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47520" y="6151680"/>
            <a:ext cx="387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34920" y="604692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1911600" y="602604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3606840" y="603720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5329440" y="603108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1479600" y="616428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3362400" y="620712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5085000" y="615456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6881760" y="6080040"/>
            <a:ext cx="101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5686560" y="5989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6529320" y="6014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4"/>
          <p:cNvSpPr/>
          <p:nvPr/>
        </p:nvSpPr>
        <p:spPr>
          <a:xfrm>
            <a:off x="579276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5"/>
          <p:cNvSpPr/>
          <p:nvPr/>
        </p:nvSpPr>
        <p:spPr>
          <a:xfrm>
            <a:off x="6321600" y="6031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6"/>
          <p:cNvSpPr/>
          <p:nvPr/>
        </p:nvSpPr>
        <p:spPr>
          <a:xfrm>
            <a:off x="6416640" y="6021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610884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8"/>
          <p:cNvSpPr/>
          <p:nvPr/>
        </p:nvSpPr>
        <p:spPr>
          <a:xfrm>
            <a:off x="5889600" y="5972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9"/>
          <p:cNvSpPr/>
          <p:nvPr/>
        </p:nvSpPr>
        <p:spPr>
          <a:xfrm>
            <a:off x="600696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0"/>
          <p:cNvSpPr/>
          <p:nvPr/>
        </p:nvSpPr>
        <p:spPr>
          <a:xfrm>
            <a:off x="6208560" y="5940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"/>
          <p:cNvSpPr/>
          <p:nvPr/>
        </p:nvSpPr>
        <p:spPr>
          <a:xfrm>
            <a:off x="568152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2"/>
          <p:cNvSpPr/>
          <p:nvPr/>
        </p:nvSpPr>
        <p:spPr>
          <a:xfrm>
            <a:off x="578340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3"/>
          <p:cNvSpPr/>
          <p:nvPr/>
        </p:nvSpPr>
        <p:spPr>
          <a:xfrm>
            <a:off x="611352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4"/>
          <p:cNvSpPr/>
          <p:nvPr/>
        </p:nvSpPr>
        <p:spPr>
          <a:xfrm>
            <a:off x="5888880" y="60897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5"/>
          <p:cNvSpPr/>
          <p:nvPr/>
        </p:nvSpPr>
        <p:spPr>
          <a:xfrm>
            <a:off x="6214320" y="60469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6"/>
          <p:cNvSpPr/>
          <p:nvPr/>
        </p:nvSpPr>
        <p:spPr>
          <a:xfrm>
            <a:off x="6000120" y="59562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7"/>
          <p:cNvSpPr/>
          <p:nvPr/>
        </p:nvSpPr>
        <p:spPr>
          <a:xfrm>
            <a:off x="4135320" y="5962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8"/>
          <p:cNvSpPr/>
          <p:nvPr/>
        </p:nvSpPr>
        <p:spPr>
          <a:xfrm>
            <a:off x="4951440" y="6041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9"/>
          <p:cNvSpPr/>
          <p:nvPr/>
        </p:nvSpPr>
        <p:spPr>
          <a:xfrm>
            <a:off x="424188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0"/>
          <p:cNvSpPr/>
          <p:nvPr/>
        </p:nvSpPr>
        <p:spPr>
          <a:xfrm>
            <a:off x="4775040" y="60148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1"/>
          <p:cNvSpPr/>
          <p:nvPr/>
        </p:nvSpPr>
        <p:spPr>
          <a:xfrm>
            <a:off x="4859280" y="6021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2"/>
          <p:cNvSpPr/>
          <p:nvPr/>
        </p:nvSpPr>
        <p:spPr>
          <a:xfrm>
            <a:off x="4560840" y="5924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3"/>
          <p:cNvSpPr/>
          <p:nvPr/>
        </p:nvSpPr>
        <p:spPr>
          <a:xfrm>
            <a:off x="4348080" y="59403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4"/>
          <p:cNvSpPr/>
          <p:nvPr/>
        </p:nvSpPr>
        <p:spPr>
          <a:xfrm>
            <a:off x="446076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5"/>
          <p:cNvSpPr/>
          <p:nvPr/>
        </p:nvSpPr>
        <p:spPr>
          <a:xfrm>
            <a:off x="4662360" y="5908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6"/>
          <p:cNvSpPr/>
          <p:nvPr/>
        </p:nvSpPr>
        <p:spPr>
          <a:xfrm>
            <a:off x="414504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7"/>
          <p:cNvSpPr/>
          <p:nvPr/>
        </p:nvSpPr>
        <p:spPr>
          <a:xfrm>
            <a:off x="424656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8"/>
          <p:cNvSpPr/>
          <p:nvPr/>
        </p:nvSpPr>
        <p:spPr>
          <a:xfrm>
            <a:off x="456732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9"/>
          <p:cNvSpPr/>
          <p:nvPr/>
        </p:nvSpPr>
        <p:spPr>
          <a:xfrm>
            <a:off x="4352400" y="605304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0"/>
          <p:cNvSpPr/>
          <p:nvPr/>
        </p:nvSpPr>
        <p:spPr>
          <a:xfrm>
            <a:off x="4662000" y="60213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1"/>
          <p:cNvSpPr/>
          <p:nvPr/>
        </p:nvSpPr>
        <p:spPr>
          <a:xfrm>
            <a:off x="4465080" y="59245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2"/>
          <p:cNvSpPr/>
          <p:nvPr/>
        </p:nvSpPr>
        <p:spPr>
          <a:xfrm>
            <a:off x="244008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3"/>
          <p:cNvSpPr/>
          <p:nvPr/>
        </p:nvSpPr>
        <p:spPr>
          <a:xfrm>
            <a:off x="3260880" y="60660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4"/>
          <p:cNvSpPr/>
          <p:nvPr/>
        </p:nvSpPr>
        <p:spPr>
          <a:xfrm>
            <a:off x="2540160" y="5972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5"/>
          <p:cNvSpPr/>
          <p:nvPr/>
        </p:nvSpPr>
        <p:spPr>
          <a:xfrm>
            <a:off x="3063960" y="6046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6"/>
          <p:cNvSpPr/>
          <p:nvPr/>
        </p:nvSpPr>
        <p:spPr>
          <a:xfrm>
            <a:off x="3164040" y="6053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7"/>
          <p:cNvSpPr/>
          <p:nvPr/>
        </p:nvSpPr>
        <p:spPr>
          <a:xfrm>
            <a:off x="2855880" y="5956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8"/>
          <p:cNvSpPr/>
          <p:nvPr/>
        </p:nvSpPr>
        <p:spPr>
          <a:xfrm>
            <a:off x="2641680" y="59626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9"/>
          <p:cNvSpPr/>
          <p:nvPr/>
        </p:nvSpPr>
        <p:spPr>
          <a:xfrm>
            <a:off x="276372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0"/>
          <p:cNvSpPr/>
          <p:nvPr/>
        </p:nvSpPr>
        <p:spPr>
          <a:xfrm>
            <a:off x="2955960" y="5951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1"/>
          <p:cNvSpPr/>
          <p:nvPr/>
        </p:nvSpPr>
        <p:spPr>
          <a:xfrm>
            <a:off x="244476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2546280" y="6080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3"/>
          <p:cNvSpPr/>
          <p:nvPr/>
        </p:nvSpPr>
        <p:spPr>
          <a:xfrm>
            <a:off x="2860560" y="6058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4"/>
          <p:cNvSpPr/>
          <p:nvPr/>
        </p:nvSpPr>
        <p:spPr>
          <a:xfrm>
            <a:off x="2647440" y="606888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5"/>
          <p:cNvSpPr/>
          <p:nvPr/>
        </p:nvSpPr>
        <p:spPr>
          <a:xfrm>
            <a:off x="2966400" y="605808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6"/>
          <p:cNvSpPr/>
          <p:nvPr/>
        </p:nvSpPr>
        <p:spPr>
          <a:xfrm>
            <a:off x="2747520" y="59562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7"/>
          <p:cNvSpPr/>
          <p:nvPr/>
        </p:nvSpPr>
        <p:spPr>
          <a:xfrm>
            <a:off x="514440" y="59990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8"/>
          <p:cNvSpPr/>
          <p:nvPr/>
        </p:nvSpPr>
        <p:spPr>
          <a:xfrm>
            <a:off x="1351080" y="605808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9"/>
          <p:cNvSpPr/>
          <p:nvPr/>
        </p:nvSpPr>
        <p:spPr>
          <a:xfrm>
            <a:off x="620640" y="5983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0"/>
          <p:cNvSpPr/>
          <p:nvPr/>
        </p:nvSpPr>
        <p:spPr>
          <a:xfrm>
            <a:off x="1138320" y="6046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1"/>
          <p:cNvSpPr/>
          <p:nvPr/>
        </p:nvSpPr>
        <p:spPr>
          <a:xfrm>
            <a:off x="1239840" y="6037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2"/>
          <p:cNvSpPr/>
          <p:nvPr/>
        </p:nvSpPr>
        <p:spPr>
          <a:xfrm>
            <a:off x="722160" y="59785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3"/>
          <p:cNvSpPr/>
          <p:nvPr/>
        </p:nvSpPr>
        <p:spPr>
          <a:xfrm>
            <a:off x="828720" y="6073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4"/>
          <p:cNvSpPr/>
          <p:nvPr/>
        </p:nvSpPr>
        <p:spPr>
          <a:xfrm>
            <a:off x="514440" y="61117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5"/>
          <p:cNvSpPr/>
          <p:nvPr/>
        </p:nvSpPr>
        <p:spPr>
          <a:xfrm>
            <a:off x="625320" y="610092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6"/>
          <p:cNvSpPr/>
          <p:nvPr/>
        </p:nvSpPr>
        <p:spPr>
          <a:xfrm>
            <a:off x="930240" y="60642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7"/>
          <p:cNvSpPr/>
          <p:nvPr/>
        </p:nvSpPr>
        <p:spPr>
          <a:xfrm>
            <a:off x="726480" y="608976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8"/>
          <p:cNvSpPr/>
          <p:nvPr/>
        </p:nvSpPr>
        <p:spPr>
          <a:xfrm>
            <a:off x="1031400" y="605304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1"/>
          <p:cNvSpPr/>
          <p:nvPr/>
        </p:nvSpPr>
        <p:spPr>
          <a:xfrm>
            <a:off x="466560" y="5338800"/>
            <a:ext cx="5904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5"/>
          <p:cNvSpPr/>
          <p:nvPr/>
        </p:nvSpPr>
        <p:spPr>
          <a:xfrm rot="19451400">
            <a:off x="1426680" y="569412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96"/>
          <p:cNvSpPr/>
          <p:nvPr/>
        </p:nvSpPr>
        <p:spPr>
          <a:xfrm rot="18854400">
            <a:off x="1526760" y="56271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7"/>
          <p:cNvSpPr/>
          <p:nvPr/>
        </p:nvSpPr>
        <p:spPr>
          <a:xfrm rot="18639000">
            <a:off x="1607400" y="555624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101" descr="15_17a"/>
          <p:cNvPicPr/>
          <p:nvPr/>
        </p:nvPicPr>
        <p:blipFill>
          <a:blip r:embed="rId3"/>
          <a:srcRect l="15750" t="3000" r="19128" b="6000"/>
          <a:stretch/>
        </p:blipFill>
        <p:spPr>
          <a:xfrm>
            <a:off x="7074000" y="4667400"/>
            <a:ext cx="1938240" cy="20318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02"/>
          <p:cNvSpPr/>
          <p:nvPr/>
        </p:nvSpPr>
        <p:spPr>
          <a:xfrm>
            <a:off x="7363440" y="4791240"/>
            <a:ext cx="2307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3"/>
          <p:cNvSpPr/>
          <p:nvPr/>
        </p:nvSpPr>
        <p:spPr>
          <a:xfrm>
            <a:off x="7679520" y="4878360"/>
            <a:ext cx="24768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4"/>
          <p:cNvSpPr/>
          <p:nvPr/>
        </p:nvSpPr>
        <p:spPr>
          <a:xfrm>
            <a:off x="7886160" y="5127480"/>
            <a:ext cx="2383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05"/>
          <p:cNvSpPr/>
          <p:nvPr/>
        </p:nvSpPr>
        <p:spPr>
          <a:xfrm>
            <a:off x="8183520" y="5214960"/>
            <a:ext cx="24624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6"/>
          <p:cNvSpPr/>
          <p:nvPr/>
        </p:nvSpPr>
        <p:spPr>
          <a:xfrm>
            <a:off x="8527680" y="4776840"/>
            <a:ext cx="529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07"/>
          <p:cNvSpPr/>
          <p:nvPr/>
        </p:nvSpPr>
        <p:spPr>
          <a:xfrm>
            <a:off x="789624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08"/>
          <p:cNvSpPr/>
          <p:nvPr/>
        </p:nvSpPr>
        <p:spPr>
          <a:xfrm>
            <a:off x="831996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09"/>
          <p:cNvSpPr/>
          <p:nvPr/>
        </p:nvSpPr>
        <p:spPr>
          <a:xfrm>
            <a:off x="843768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10"/>
          <p:cNvSpPr/>
          <p:nvPr/>
        </p:nvSpPr>
        <p:spPr>
          <a:xfrm>
            <a:off x="800424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1"/>
          <p:cNvSpPr/>
          <p:nvPr/>
        </p:nvSpPr>
        <p:spPr>
          <a:xfrm>
            <a:off x="8096400" y="611676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2"/>
          <p:cNvSpPr/>
          <p:nvPr/>
        </p:nvSpPr>
        <p:spPr>
          <a:xfrm>
            <a:off x="788688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3"/>
          <p:cNvSpPr/>
          <p:nvPr/>
        </p:nvSpPr>
        <p:spPr>
          <a:xfrm>
            <a:off x="8217000" y="6211800"/>
            <a:ext cx="9216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4"/>
          <p:cNvSpPr/>
          <p:nvPr/>
        </p:nvSpPr>
        <p:spPr>
          <a:xfrm>
            <a:off x="7998840" y="62118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5"/>
          <p:cNvSpPr/>
          <p:nvPr/>
        </p:nvSpPr>
        <p:spPr>
          <a:xfrm>
            <a:off x="8102160" y="6211800"/>
            <a:ext cx="9972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6"/>
          <p:cNvSpPr/>
          <p:nvPr/>
        </p:nvSpPr>
        <p:spPr>
          <a:xfrm>
            <a:off x="8922240" y="6257880"/>
            <a:ext cx="1227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7"/>
          <p:cNvSpPr/>
          <p:nvPr/>
        </p:nvSpPr>
        <p:spPr>
          <a:xfrm flipH="1">
            <a:off x="8691480" y="5086440"/>
            <a:ext cx="39600" cy="46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9"/>
          <p:cNvSpPr/>
          <p:nvPr/>
        </p:nvSpPr>
        <p:spPr>
          <a:xfrm>
            <a:off x="6762600" y="4775040"/>
            <a:ext cx="490680" cy="250920"/>
          </a:xfrm>
          <a:prstGeom prst="rightArrow">
            <a:avLst>
              <a:gd name="adj1" fmla="val 50000"/>
              <a:gd name="adj2" fmla="val 4888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916360" y="3370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Good Overview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rcRect l="0" t="0" r="0" b="3603"/>
          <a:stretch/>
        </p:blipFill>
        <p:spPr>
          <a:xfrm>
            <a:off x="3301920" y="304920"/>
            <a:ext cx="5842080" cy="64008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609480" y="1219320"/>
            <a:ext cx="2562480" cy="885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n you tell the sto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658240" y="522720"/>
            <a:ext cx="67464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041200" y="2399040"/>
            <a:ext cx="1308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m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6480000" y="6483600"/>
            <a:ext cx="1209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6949440" y="5146560"/>
            <a:ext cx="750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8002440" y="1447920"/>
            <a:ext cx="854280" cy="402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n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6199920" y="4111560"/>
            <a:ext cx="146556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y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3279960" y="3161160"/>
            <a:ext cx="170172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ure m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654800" y="2406600"/>
            <a:ext cx="17442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5' GTP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3908880" y="3557520"/>
            <a:ext cx="16560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poly-A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295920" y="3952800"/>
            <a:ext cx="363708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large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276480" y="5386320"/>
            <a:ext cx="3688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small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5775120" y="5546880"/>
            <a:ext cx="15300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6035400" y="5546880"/>
            <a:ext cx="15300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6334200" y="5546880"/>
            <a:ext cx="165240" cy="274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3112920" y="4989960"/>
            <a:ext cx="3621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8535960" y="3937320"/>
            <a:ext cx="3621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1"/>
          <p:cNvSpPr/>
          <p:nvPr/>
        </p:nvSpPr>
        <p:spPr>
          <a:xfrm>
            <a:off x="5167080" y="221040"/>
            <a:ext cx="200664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NA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2"/>
          <p:cNvSpPr/>
          <p:nvPr/>
        </p:nvSpPr>
        <p:spPr>
          <a:xfrm>
            <a:off x="3530520" y="1804680"/>
            <a:ext cx="89100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e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3"/>
          <p:cNvSpPr/>
          <p:nvPr/>
        </p:nvSpPr>
        <p:spPr>
          <a:xfrm>
            <a:off x="5585400" y="1881000"/>
            <a:ext cx="10447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ef4"/>
                </a:solidFill>
                <a:latin typeface="Arial"/>
              </a:rPr>
              <a:t>in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4"/>
          <p:cNvSpPr/>
          <p:nvPr/>
        </p:nvSpPr>
        <p:spPr>
          <a:xfrm>
            <a:off x="8232120" y="2209680"/>
            <a:ext cx="750600" cy="293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38280" y="318600"/>
            <a:ext cx="78804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karyote vs. Eukaryote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n 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lar chromo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ke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pl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r &amp; terminato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rib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Rounded MT Bol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n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wound on histon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intr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TA box promo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factor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71000" y="1371600"/>
            <a:ext cx="8796600" cy="533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cription &amp; translation are simultaneous in bacte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occur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R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riboso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mR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it is be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b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4" descr="f15-13_translation_in_a_c"/>
          <p:cNvPicPr/>
          <p:nvPr/>
        </p:nvPicPr>
        <p:blipFill>
          <a:blip r:embed="rId1"/>
          <a:srcRect l="6189" t="2102" r="5622" b="0"/>
          <a:stretch/>
        </p:blipFill>
        <p:spPr>
          <a:xfrm>
            <a:off x="3416400" y="2011320"/>
            <a:ext cx="5657760" cy="47102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391680" y="188640"/>
            <a:ext cx="852012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otein Synthesis in Prokary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46240"/>
            <a:ext cx="629928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ntral Dogma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3838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of genetic information in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move information from DNA to protei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9" descr=""/>
          <p:cNvPicPr/>
          <p:nvPr/>
        </p:nvPicPr>
        <p:blipFill>
          <a:blip r:embed="rId1"/>
          <a:stretch/>
        </p:blipFill>
        <p:spPr>
          <a:xfrm>
            <a:off x="7634160" y="382680"/>
            <a:ext cx="1425600" cy="1425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AutoShape 31"/>
          <p:cNvSpPr/>
          <p:nvPr/>
        </p:nvSpPr>
        <p:spPr>
          <a:xfrm>
            <a:off x="6213600" y="3344760"/>
            <a:ext cx="1579320" cy="304920"/>
          </a:xfrm>
          <a:prstGeom prst="rightArrow">
            <a:avLst>
              <a:gd name="adj1" fmla="val 50000"/>
              <a:gd name="adj2" fmla="val 1294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2"/>
          <p:cNvSpPr/>
          <p:nvPr/>
        </p:nvSpPr>
        <p:spPr>
          <a:xfrm>
            <a:off x="1255680" y="3344760"/>
            <a:ext cx="1579680" cy="304920"/>
          </a:xfrm>
          <a:prstGeom prst="rightArrow">
            <a:avLst>
              <a:gd name="adj1" fmla="val 50000"/>
              <a:gd name="adj2" fmla="val 12951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>
            <a:off x="3749760" y="3344760"/>
            <a:ext cx="1579320" cy="304920"/>
          </a:xfrm>
          <a:prstGeom prst="rightArrow">
            <a:avLst>
              <a:gd name="adj1" fmla="val 50000"/>
              <a:gd name="adj2" fmla="val 1294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10800000">
            <a:off x="709560" y="3414240"/>
            <a:ext cx="1752480" cy="1752840"/>
          </a:xfrm>
          <a:custGeom>
            <a:avLst/>
            <a:gdLst>
              <a:gd name="textAreaLeft" fmla="*/ 256320 w 1752480"/>
              <a:gd name="textAreaRight" fmla="*/ 1496160 w 1752480"/>
              <a:gd name="textAreaTop" fmla="*/ 256680 h 1752840"/>
              <a:gd name="textAreaBottom" fmla="*/ 1496160 h 1752840"/>
            </a:gdLst>
            <a:ahLst/>
            <a:rect l="textAreaLeft" t="textAreaTop" r="textAreaRight" b="textAreaBottom"/>
            <a:pathLst>
              <a:path w="21600" h="21600">
                <a:moveTo>
                  <a:pt x="19370" y="10800"/>
                </a:moveTo>
                <a:cubicBezTo>
                  <a:pt x="19370" y="6066"/>
                  <a:pt x="15533" y="2230"/>
                  <a:pt x="10800" y="2230"/>
                </a:cubicBezTo>
                <a:cubicBezTo>
                  <a:pt x="6066" y="2230"/>
                  <a:pt x="2230" y="6066"/>
                  <a:pt x="2230" y="10800"/>
                </a:cubicBezTo>
                <a:cubicBezTo>
                  <a:pt x="2229" y="15526"/>
                  <a:pt x="6057" y="19361"/>
                  <a:pt x="10784" y="19369"/>
                </a:cubicBezTo>
                <a:lnTo>
                  <a:pt x="10780" y="21599"/>
                </a:lnTo>
                <a:cubicBezTo>
                  <a:pt x="4823" y="21589"/>
                  <a:pt x="0" y="1675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20485" y="14615"/>
                </a:lnTo>
                <a:lnTo>
                  <a:pt x="16670" y="10800"/>
                </a:lnTo>
                <a:lnTo>
                  <a:pt x="1937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7"/>
          <p:cNvSpPr/>
          <p:nvPr/>
        </p:nvSpPr>
        <p:spPr>
          <a:xfrm rot="20700000">
            <a:off x="1584720" y="277236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8"/>
          <p:cNvSpPr/>
          <p:nvPr/>
        </p:nvSpPr>
        <p:spPr>
          <a:xfrm rot="20700000">
            <a:off x="4092840" y="2772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731520" y="51282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>
            <a:off x="5398560" y="3141360"/>
            <a:ext cx="17982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898360" y="3139560"/>
            <a:ext cx="12420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393480" y="3141360"/>
            <a:ext cx="1242000" cy="711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39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7848720" y="3141360"/>
            <a:ext cx="1113840" cy="7117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12600">
            <a:solidFill>
              <a:srgbClr val="20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8" descr=""/>
          <p:cNvPicPr/>
          <p:nvPr/>
        </p:nvPicPr>
        <p:blipFill>
          <a:blip r:embed="rId2"/>
          <a:stretch/>
        </p:blipFill>
        <p:spPr>
          <a:xfrm>
            <a:off x="3749760" y="3962520"/>
            <a:ext cx="2792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4240" y="231480"/>
            <a:ext cx="4294440" cy="6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08000"/>
            <a:ext cx="52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s =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Ribose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uracil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instead of thy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U bonds with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Calibri"/>
              </a:rPr>
              <a:t>C bonds with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7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a50021"/>
                </a:solidFill>
                <a:uFillTx/>
                <a:latin typeface="Calibri"/>
              </a:rPr>
              <a:t>single stra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4200840" y="5953320"/>
            <a:ext cx="1464480" cy="742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7720" y="5953320"/>
            <a:ext cx="1464480" cy="7426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1663560" y="6180120"/>
            <a:ext cx="2090880" cy="304920"/>
          </a:xfrm>
          <a:prstGeom prst="rightArrow">
            <a:avLst>
              <a:gd name="adj1" fmla="val 50000"/>
              <a:gd name="adj2" fmla="val 17142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662840" y="5774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4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5638680" y="304812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"/>
          <p:cNvPicPr/>
          <p:nvPr/>
        </p:nvPicPr>
        <p:blipFill>
          <a:blip r:embed="rId1"/>
          <a:srcRect l="27499" t="3278" r="28754" b="15298"/>
          <a:stretch/>
        </p:blipFill>
        <p:spPr>
          <a:xfrm>
            <a:off x="6024600" y="433440"/>
            <a:ext cx="2960640" cy="6303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mRNA-colored"/>
          <p:cNvPicPr/>
          <p:nvPr/>
        </p:nvPicPr>
        <p:blipFill>
          <a:blip r:embed="rId2"/>
          <a:srcRect l="40921" t="0" r="0" b="0"/>
          <a:stretch/>
        </p:blipFill>
        <p:spPr>
          <a:xfrm rot="1851000">
            <a:off x="3959280" y="5316120"/>
            <a:ext cx="5950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3600" y="174240"/>
            <a:ext cx="822960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re DNA and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97000" y="1117440"/>
          <a:ext cx="8613720" cy="5521320"/>
        </p:xfrm>
        <a:graphic>
          <a:graphicData uri="http://schemas.openxmlformats.org/drawingml/2006/table">
            <a:tbl>
              <a:tblPr/>
              <a:tblGrid>
                <a:gridCol w="1985760"/>
                <a:gridCol w="3156120"/>
                <a:gridCol w="34718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ouble hel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ingle str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oxyrib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ib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, T, C, and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, U, C and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ly in the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llowed to travel from nucleus to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7760" y="217440"/>
            <a:ext cx="836136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080" y="1058400"/>
            <a:ext cx="895356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ibosomal RNA (r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component of rib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Calibri"/>
              </a:rPr>
              <a:t>Transfer RNA (t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ded upon itsel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s the amino acids to the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ssenger RNA (mR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nucleotides that determines the primary sequence of the polypep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in the nucleus from the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nRNA (small-nuclear </a:t>
            </a:r>
            <a:r>
              <a:rPr b="1" lang="ja-JP" sz="2800" spc="-1" strike="noStrike">
                <a:solidFill>
                  <a:srgbClr val="ff66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nurps</a:t>
            </a:r>
            <a:r>
              <a:rPr b="1" lang="ja-JP" sz="2800" spc="-1" strike="noStrike">
                <a:solidFill>
                  <a:srgbClr val="ff6600"/>
                </a:solidFill>
                <a:latin typeface="Calibri"/>
              </a:rPr>
              <a:t>”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s th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eosomes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are used to cut out introns from pre-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</a:rPr>
              <a:t>siRNA (small-interfer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s specific mRNA and prohibits it from being ex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1" descr="growth_hormones"/>
          <p:cNvPicPr/>
          <p:nvPr/>
        </p:nvPicPr>
        <p:blipFill>
          <a:blip r:embed="rId1"/>
          <a:srcRect l="0" t="0" r="46042" b="41026"/>
          <a:stretch/>
        </p:blipFill>
        <p:spPr>
          <a:xfrm>
            <a:off x="7710480" y="3902040"/>
            <a:ext cx="1433520" cy="2038320"/>
          </a:xfrm>
          <a:prstGeom prst="rect">
            <a:avLst/>
          </a:prstGeom>
          <a:ln w="0">
            <a:noFill/>
          </a:ln>
        </p:spPr>
      </p:pic>
      <p:sp>
        <p:nvSpPr>
          <p:cNvPr id="297" name="Oval 11"/>
          <p:cNvSpPr/>
          <p:nvPr/>
        </p:nvSpPr>
        <p:spPr>
          <a:xfrm>
            <a:off x="-609480" y="1295280"/>
            <a:ext cx="5067360" cy="5562720"/>
          </a:xfrm>
          <a:prstGeom prst="ellipse">
            <a:avLst/>
          </a:prstGeom>
          <a:solidFill>
            <a:srgbClr val="fdff4a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2" descr=""/>
          <p:cNvPicPr/>
          <p:nvPr/>
        </p:nvPicPr>
        <p:blipFill>
          <a:blip r:embed="rId2"/>
          <a:stretch/>
        </p:blipFill>
        <p:spPr>
          <a:xfrm>
            <a:off x="0" y="3763800"/>
            <a:ext cx="2185920" cy="17402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3"/>
          <p:cNvSpPr/>
          <p:nvPr/>
        </p:nvSpPr>
        <p:spPr>
          <a:xfrm>
            <a:off x="5257800" y="3505320"/>
            <a:ext cx="1579680" cy="304560"/>
          </a:xfrm>
          <a:prstGeom prst="rightArrow">
            <a:avLst>
              <a:gd name="adj1" fmla="val 50000"/>
              <a:gd name="adj2" fmla="val 1296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3648600" y="3178080"/>
            <a:ext cx="187272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3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in Synthesis: From gene to 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1828800" y="3505320"/>
            <a:ext cx="1655640" cy="304560"/>
          </a:xfrm>
          <a:prstGeom prst="rightArrow">
            <a:avLst>
              <a:gd name="adj1" fmla="val 50000"/>
              <a:gd name="adj2" fmla="val 135904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19560" y="3178080"/>
            <a:ext cx="137592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2058120" y="28944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1416960" y="1262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5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3888360" y="12625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5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3"/>
          <p:cNvGrpSpPr/>
          <p:nvPr/>
        </p:nvGrpSpPr>
        <p:grpSpPr>
          <a:xfrm>
            <a:off x="3476520" y="4011480"/>
            <a:ext cx="1571760" cy="1781280"/>
            <a:chOff x="3476520" y="4011480"/>
            <a:chExt cx="1571760" cy="1781280"/>
          </a:xfrm>
        </p:grpSpPr>
        <p:pic>
          <p:nvPicPr>
            <p:cNvPr id="308" name="Picture 34" descr=""/>
            <p:cNvPicPr/>
            <p:nvPr/>
          </p:nvPicPr>
          <p:blipFill>
            <a:blip r:embed="rId3"/>
            <a:stretch/>
          </p:blipFill>
          <p:spPr>
            <a:xfrm>
              <a:off x="3476520" y="4011480"/>
              <a:ext cx="157176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5" descr=""/>
            <p:cNvPicPr/>
            <p:nvPr/>
          </p:nvPicPr>
          <p:blipFill>
            <a:blip r:embed="rId4"/>
            <a:stretch/>
          </p:blipFill>
          <p:spPr>
            <a:xfrm>
              <a:off x="3476520" y="4325760"/>
              <a:ext cx="1571760" cy="10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6" descr=""/>
            <p:cNvPicPr/>
            <p:nvPr/>
          </p:nvPicPr>
          <p:blipFill>
            <a:blip r:embed="rId5"/>
            <a:stretch/>
          </p:blipFill>
          <p:spPr>
            <a:xfrm>
              <a:off x="3476520" y="4739760"/>
              <a:ext cx="1571760" cy="105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45" descr=""/>
          <p:cNvPicPr/>
          <p:nvPr/>
        </p:nvPicPr>
        <p:blipFill>
          <a:blip r:embed="rId6"/>
          <a:stretch/>
        </p:blipFill>
        <p:spPr>
          <a:xfrm>
            <a:off x="573120" y="4788000"/>
            <a:ext cx="2171520" cy="14540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59"/>
          <p:cNvGrpSpPr/>
          <p:nvPr/>
        </p:nvGrpSpPr>
        <p:grpSpPr>
          <a:xfrm>
            <a:off x="6880320" y="406440"/>
            <a:ext cx="2084400" cy="4546440"/>
            <a:chOff x="6880320" y="406440"/>
            <a:chExt cx="2084400" cy="4546440"/>
          </a:xfrm>
        </p:grpSpPr>
        <p:grpSp>
          <p:nvGrpSpPr>
            <p:cNvPr id="313" name="Group 31"/>
            <p:cNvGrpSpPr/>
            <p:nvPr/>
          </p:nvGrpSpPr>
          <p:grpSpPr>
            <a:xfrm>
              <a:off x="6880320" y="1676520"/>
              <a:ext cx="2057400" cy="3276360"/>
              <a:chOff x="6880320" y="1676520"/>
              <a:chExt cx="2057400" cy="3276360"/>
            </a:xfrm>
          </p:grpSpPr>
          <p:grpSp>
            <p:nvGrpSpPr>
              <p:cNvPr id="314" name="Group 30"/>
              <p:cNvGrpSpPr/>
              <p:nvPr/>
            </p:nvGrpSpPr>
            <p:grpSpPr>
              <a:xfrm>
                <a:off x="6880320" y="2144880"/>
                <a:ext cx="2031840" cy="2808000"/>
                <a:chOff x="6880320" y="2144880"/>
                <a:chExt cx="2031840" cy="2808000"/>
              </a:xfrm>
            </p:grpSpPr>
            <p:sp>
              <p:nvSpPr>
                <p:cNvPr id="315" name="Oval 4"/>
                <p:cNvSpPr/>
                <p:nvPr/>
              </p:nvSpPr>
              <p:spPr>
                <a:xfrm>
                  <a:off x="7845480" y="39020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5"/>
                <p:cNvSpPr/>
                <p:nvPr/>
              </p:nvSpPr>
              <p:spPr>
                <a:xfrm>
                  <a:off x="8150400" y="336852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6"/>
                <p:cNvSpPr/>
                <p:nvPr/>
              </p:nvSpPr>
              <p:spPr>
                <a:xfrm>
                  <a:off x="8302680" y="29066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7"/>
                <p:cNvSpPr/>
                <p:nvPr/>
              </p:nvSpPr>
              <p:spPr>
                <a:xfrm>
                  <a:off x="7794720" y="26020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8"/>
                <p:cNvSpPr/>
                <p:nvPr/>
              </p:nvSpPr>
              <p:spPr>
                <a:xfrm>
                  <a:off x="8074080" y="21448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9"/>
                <p:cNvSpPr/>
                <p:nvPr/>
              </p:nvSpPr>
              <p:spPr>
                <a:xfrm>
                  <a:off x="6880320" y="4430880"/>
                  <a:ext cx="609480" cy="522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0"/>
                <p:cNvSpPr/>
                <p:nvPr/>
              </p:nvSpPr>
              <p:spPr>
                <a:xfrm>
                  <a:off x="7337520" y="4130640"/>
                  <a:ext cx="60948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Oval 29"/>
              <p:cNvSpPr/>
              <p:nvPr/>
            </p:nvSpPr>
            <p:spPr>
              <a:xfrm>
                <a:off x="8328240" y="1676520"/>
                <a:ext cx="609480" cy="52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Oval 56"/>
            <p:cNvSpPr/>
            <p:nvPr/>
          </p:nvSpPr>
          <p:spPr>
            <a:xfrm>
              <a:off x="8248680" y="1160640"/>
              <a:ext cx="609480" cy="52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7"/>
            <p:cNvSpPr/>
            <p:nvPr/>
          </p:nvSpPr>
          <p:spPr>
            <a:xfrm>
              <a:off x="8354880" y="644400"/>
              <a:ext cx="60984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8"/>
            <p:cNvSpPr/>
            <p:nvPr/>
          </p:nvSpPr>
          <p:spPr>
            <a:xfrm>
              <a:off x="7800840" y="406440"/>
              <a:ext cx="60984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12"/>
          <p:cNvSpPr/>
          <p:nvPr/>
        </p:nvSpPr>
        <p:spPr>
          <a:xfrm>
            <a:off x="6999480" y="3178080"/>
            <a:ext cx="2058480" cy="742680"/>
          </a:xfrm>
          <a:prstGeom prst="roundRect">
            <a:avLst>
              <a:gd name="adj" fmla="val 16667"/>
            </a:avLst>
          </a:prstGeom>
          <a:solidFill>
            <a:srgbClr val="ffd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4"/>
          <p:cNvSpPr/>
          <p:nvPr/>
        </p:nvSpPr>
        <p:spPr>
          <a:xfrm rot="5400000">
            <a:off x="7219080" y="4523760"/>
            <a:ext cx="1579680" cy="304560"/>
          </a:xfrm>
          <a:prstGeom prst="rightArrow">
            <a:avLst>
              <a:gd name="adj1" fmla="val 50000"/>
              <a:gd name="adj2" fmla="val 12966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563440" y="2894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0" descr=""/>
          <p:cNvPicPr/>
          <p:nvPr/>
        </p:nvPicPr>
        <p:blipFill>
          <a:blip r:embed="rId7"/>
          <a:stretch/>
        </p:blipFill>
        <p:spPr>
          <a:xfrm>
            <a:off x="5419800" y="3398760"/>
            <a:ext cx="1974600" cy="22417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2"/>
          <p:cNvGrpSpPr/>
          <p:nvPr/>
        </p:nvGrpSpPr>
        <p:grpSpPr>
          <a:xfrm>
            <a:off x="4802040" y="4991040"/>
            <a:ext cx="1735200" cy="1054080"/>
            <a:chOff x="4802040" y="4991040"/>
            <a:chExt cx="1735200" cy="1054080"/>
          </a:xfrm>
        </p:grpSpPr>
        <p:grpSp>
          <p:nvGrpSpPr>
            <p:cNvPr id="331" name="Group 23"/>
            <p:cNvGrpSpPr/>
            <p:nvPr/>
          </p:nvGrpSpPr>
          <p:grpSpPr>
            <a:xfrm>
              <a:off x="4802040" y="4991040"/>
              <a:ext cx="1714680" cy="1054080"/>
              <a:chOff x="4802040" y="4991040"/>
              <a:chExt cx="1714680" cy="1054080"/>
            </a:xfrm>
          </p:grpSpPr>
          <p:sp>
            <p:nvSpPr>
              <p:cNvPr id="332" name="Oval 24"/>
              <p:cNvSpPr/>
              <p:nvPr/>
            </p:nvSpPr>
            <p:spPr>
              <a:xfrm flipV="1">
                <a:off x="4802040" y="4991040"/>
                <a:ext cx="1714680" cy="65880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25"/>
              <p:cNvSpPr/>
              <p:nvPr/>
            </p:nvSpPr>
            <p:spPr>
              <a:xfrm flipV="1">
                <a:off x="5131440" y="5386320"/>
                <a:ext cx="1055160" cy="65844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6"/>
            <p:cNvSpPr/>
            <p:nvPr/>
          </p:nvSpPr>
          <p:spPr>
            <a:xfrm>
              <a:off x="4984920" y="51040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5"/>
                  </a:solidFill>
                  <a:latin typeface="Arial"/>
                </a:rPr>
                <a:t>ribos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43" descr="penguinL"/>
          <p:cNvPicPr/>
          <p:nvPr/>
        </p:nvPicPr>
        <p:blipFill>
          <a:blip r:embed="rId8"/>
          <a:stretch/>
        </p:blipFill>
        <p:spPr>
          <a:xfrm>
            <a:off x="6418440" y="5235480"/>
            <a:ext cx="1471320" cy="149544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42"/>
          <p:cNvSpPr/>
          <p:nvPr/>
        </p:nvSpPr>
        <p:spPr>
          <a:xfrm>
            <a:off x="7352280" y="5700600"/>
            <a:ext cx="1308960" cy="74268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16a"/>
                </a:solidFill>
                <a:latin typeface="Arial"/>
              </a:rPr>
              <a:t>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7640" y="203040"/>
            <a:ext cx="82882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gene is read on the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6280" y="939600"/>
            <a:ext cx="86234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Promot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before beginning of ge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referred to as a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TATA bo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is a repeating sequence of T and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for RNA polymer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transcri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Calibri"/>
              </a:rPr>
              <a:t>Enhancer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site fa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stream of g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300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s up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14" descr=""/>
          <p:cNvPicPr/>
          <p:nvPr/>
        </p:nvPicPr>
        <p:blipFill>
          <a:blip r:embed="rId1"/>
          <a:srcRect l="2772" t="2075" r="5543" b="47099"/>
          <a:stretch/>
        </p:blipFill>
        <p:spPr>
          <a:xfrm>
            <a:off x="4281480" y="3500280"/>
            <a:ext cx="4748400" cy="32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12880" y="188640"/>
            <a:ext cx="7531200" cy="78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crip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4680" y="1155240"/>
            <a:ext cx="869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factors bind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alibri"/>
              </a:rPr>
              <a:t>promoter reg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activated by hormones (cell signal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on or off tran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gers the binding of RNA polymerase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2772" t="64416" r="5543" b="1386"/>
          <a:stretch/>
        </p:blipFill>
        <p:spPr>
          <a:xfrm>
            <a:off x="1809720" y="3943440"/>
            <a:ext cx="5584680" cy="26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5:10:22Z</dcterms:created>
  <dc:creator>Kim Foglia/David Knuffke</dc:creator>
  <dc:description/>
  <dc:language>en-US</dc:language>
  <cp:lastModifiedBy>Lisa Miller</cp:lastModifiedBy>
  <cp:lastPrinted>2007-11-05T03:00:20Z</cp:lastPrinted>
  <dcterms:modified xsi:type="dcterms:W3CDTF">2013-11-20T04:30:58Z</dcterms:modified>
  <cp:revision>226</cp:revision>
  <dc:subject/>
  <dc:title>7.3 Protein Synthesis</dc:title>
</cp:coreProperties>
</file>